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1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6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5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99.png" ContentType="image/png"/>
  <Override PartName="/ppt/media/image70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23.jpeg" ContentType="image/jpeg"/>
  <Override PartName="/ppt/media/image82.jpeg" ContentType="image/jpeg"/>
  <Override PartName="/ppt/media/image56.jpeg" ContentType="image/jpeg"/>
  <Override PartName="/ppt/media/image76.jpeg" ContentType="image/jpeg"/>
  <Override PartName="/ppt/media/image73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92.jpeg" ContentType="image/jpeg"/>
  <Override PartName="/ppt/media/image3.png" ContentType="image/png"/>
  <Override PartName="/ppt/media/image15.png" ContentType="image/png"/>
  <Override PartName="/ppt/media/image16.jpeg" ContentType="image/jpeg"/>
  <Override PartName="/ppt/media/image83.jpeg" ContentType="image/jpeg"/>
  <Override PartName="/ppt/media/image24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26.jpeg" ContentType="image/jpeg"/>
  <Override PartName="/ppt/media/image85.jpeg" ContentType="image/jpeg"/>
  <Override PartName="/ppt/media/image1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2AE-F53B-4457-A476-3CC1E5DF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443-E567-477F-96F6-1AE3A3A0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D91-9769-43D8-B148-3AF276CA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D83-2D7D-412B-9ECB-2C55118B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6E2D-9BA0-46D6-AF97-679E72EB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8A7C-FDD8-4C0B-9EF7-A6ECFE26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2AE7-53DA-45E3-A0DB-5E12520A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470D-A076-49BB-A27C-DA004578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2E3A-0A6C-4B12-B015-9B04A7CB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8B73-D986-4729-AEEC-83B58C94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F68E-4E6F-46B9-9B69-05AA5D32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909-8CD8-4F09-9A82-AFFCB64C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A89-C34B-47E4-B3D7-41B9A38A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3EC6-765A-47AE-A4C8-28A8A431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14BE-39FB-4069-B4CC-4DD28689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1884-A7A8-4218-A13D-4943F638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FE0D-20C1-4255-95C2-DF479E61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B51-FFFD-4F99-BFEE-516BE62C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037-14D5-4F94-A216-87669013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D24-4E6A-4DDA-8FE1-44A3D1EE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CA1-B7B0-4967-9530-6726B56B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8D5-E631-427D-B334-D2F6BC6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594-A9D1-4384-ABC3-557ECEA6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13D-3C15-4E6E-8145-08189158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550A-BC05-4776-97D8-CCCB4507B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A867-6670-4DDD-993B-948A8A520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crossword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pressure.com/wp-content/uploads/2009/04/figs.jpg&amp;imgrefurl=http://www.freepressure.com/tag/fig/&amp;usg=__ncja_aTIz18dzy93UCiL4PnbuMs=&amp;h=426&amp;w=640&amp;sz=236&amp;hl=EN&amp;start=1&amp;tbnid=4QmEJgnU45eObM:&amp;tbnh=91&amp;tbnw=137&amp;prev=/images?q=fig+fruit&amp;gbv=2&amp;ndsp=20&amp;hl=EN&amp;sa=X" TargetMode="External"/><Relationship Id="rId2" Type="http://schemas.openxmlformats.org/officeDocument/2006/relationships/image" Target="../media/image86.jpeg"/><Relationship Id="rId3" Type="http://schemas.openxmlformats.org/officeDocument/2006/relationships/hyperlink" Target="http://images.google.com/imgres?imgurl=http://asmo.jakki.org/wp/wp-content/uploads/gig-002.jpg&amp;imgrefurl=http://asmo.jakki.org/&amp;usg=__qFIQoy7U9Nf5iLhalyp7NlmZv78=&amp;h=768&amp;w=1024&amp;sz=149&amp;hl=EN&amp;start=32&amp;tbnid=tgLavvzaKwa6YM:&amp;tbnh=113&amp;tbnw=150&amp;prev=/images?q=gig&amp;gbv=2&amp;ndsp=20&amp;hl=EN&amp;sa=N&amp;start=20" TargetMode="External"/><Relationship Id="rId4" Type="http://schemas.openxmlformats.org/officeDocument/2006/relationships/image" Target="../media/image87.jpeg"/><Relationship Id="rId5" Type="http://schemas.openxmlformats.org/officeDocument/2006/relationships/hyperlink" Target="http://images.google.com/imgres?imgurl=http://www.heartlandhunters.com/images/Outdoors/2007%2520Frog%2520Gig/Frog%2520Gig%2520Comp.JPG&amp;imgrefurl=http://www.heartlandhunters.com/2007%2520Fishin%2520Trip%2520Pics.htm&amp;usg=__1twTUw-fhQCq462ogG1JijeWzDU=&amp;h=288&amp;w=384&amp;sz=11&amp;hl=EN&amp;start=7&amp;tbnid=zdkO6tyulI6KEM:&amp;tbnh=92&amp;tbnw=123&amp;prev=/images?q=frog+gig&amp;gbv=2&amp;hl=EN" TargetMode="External"/><Relationship Id="rId6" Type="http://schemas.openxmlformats.org/officeDocument/2006/relationships/image" Target="../media/image88.jpeg"/><Relationship Id="rId7" Type="http://schemas.openxmlformats.org/officeDocument/2006/relationships/hyperlink" Target="http://images.google.com/imgres?imgurl=http://www.woodpeck.com/media/main_2right-angle-jig.jpg&amp;imgrefurl=http://www.woodpeck.com/rightanglejig.html&amp;usg=__Ntyr39FA2f_ulfd8GXpNtSjVWYI=&amp;h=319&amp;w=350&amp;sz=26&amp;hl=EN&amp;start=12&amp;tbnid=xxiriv5zDxCc8M:&amp;tbnh=109&amp;tbnw=120&amp;prev=/images?q=jig&amp;gbv=2&amp;hl=EN" TargetMode="External"/><Relationship Id="rId8" Type="http://schemas.openxmlformats.org/officeDocument/2006/relationships/image" Target="../media/image89.jpeg"/><Relationship Id="rId9" Type="http://schemas.openxmlformats.org/officeDocument/2006/relationships/hyperlink" Target="http://images.google.com/imgres?imgurl=http://www.lilhustler.com/i/main/main_musky_pro_jig.gif&amp;imgrefurl=http://www.lilhustler.com/product_musky_pro_jig.shtml&amp;usg=__QVEr1Leh_4fLQ05N3LVYc5IBVok=&amp;h=300&amp;w=300&amp;sz=37&amp;hl=EN&amp;start=17&amp;tbnid=KV5sv4_OSpiBtM:&amp;tbnh=116&amp;tbnw=116&amp;prev=/images?q=jig&amp;gbv=2&amp;hl=EN" TargetMode="External"/><Relationship Id="rId10" Type="http://schemas.openxmlformats.org/officeDocument/2006/relationships/image" Target="../media/image90.jpeg"/><Relationship Id="rId11" Type="http://schemas.openxmlformats.org/officeDocument/2006/relationships/hyperlink" Target="http://images.google.com/imgres?imgurl=http://shmsmediacenter.files.wordpress.com/2009/03/st_pattys_day_jig.jpg&amp;imgrefurl=http://shmsmediacenter.wordpress.com/2009/03/17/dance-an-irish-jig/&amp;usg=__jOnQPkicTKxFBQAvHixcAievPo4=&amp;h=1983&amp;w=1059&amp;sz=1260&amp;hl=EN&amp;start=1&amp;tbnid=B4WoEOYK_1q3xM:&amp;tbnh=150&amp;tbnw=80&amp;prev=/images?q=dance+a+jig&amp;gbv=2&amp;hl=EN" TargetMode="External"/><Relationship Id="rId12" Type="http://schemas.openxmlformats.org/officeDocument/2006/relationships/image" Target="../media/image91.jpeg"/><Relationship Id="rId13" Type="http://schemas.openxmlformats.org/officeDocument/2006/relationships/hyperlink" Target="http://images.google.com/imgres?imgurl=http://2.bp.blogspot.com/_JJS1nankc_k/R1BIAz-4K5I/AAAAAAAAATE/nwW88v2OqSE/s1600-R/tamworth+pig+and+piglet.jpg&amp;imgrefurl=http://pigofknowledge.blogspot.com/2007_11_01_archive.html&amp;usg=__rE8Xwl4IKCSQsc7VbzOiMjaE5KU=&amp;h=721&amp;w=800&amp;sz=203&amp;hl=EN&amp;start=4&amp;tbnid=llYGDJBwU1pScM:&amp;tbnh=129&amp;tbnw=143&amp;prev=/images?q=pig&amp;gbv=2&amp;hl=EN" TargetMode="External"/><Relationship Id="rId14" Type="http://schemas.openxmlformats.org/officeDocument/2006/relationships/image" Target="../media/image92.jpeg"/><Relationship Id="rId15" Type="http://schemas.openxmlformats.org/officeDocument/2006/relationships/image" Target="../media/image93.jpeg"/><Relationship Id="rId16" Type="http://schemas.openxmlformats.org/officeDocument/2006/relationships/image" Target="../media/image94.jpeg"/><Relationship Id="rId17" Type="http://schemas.openxmlformats.org/officeDocument/2006/relationships/image" Target="../media/image95.jpeg"/><Relationship Id="rId18" Type="http://schemas.openxmlformats.org/officeDocument/2006/relationships/image" Target="../media/image96.jpeg"/><Relationship Id="rId19" Type="http://schemas.openxmlformats.org/officeDocument/2006/relationships/image" Target="../media/image97.jpeg"/><Relationship Id="rId20" Type="http://schemas.openxmlformats.org/officeDocument/2006/relationships/image" Target="../media/image98.jpeg"/><Relationship Id="rId2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wc.maricopa.edu/class/bio201/muscle/leg1.jpg&amp;imgrefurl=http://www.gwc.maricopa.edu/class/bio201/muscle/leg1.htm&amp;usg=__jOhxkPb-47l4QRvnSbFOiSHEIf4=&amp;h=451&amp;w=350&amp;sz=57&amp;hl=EN&amp;start=18&amp;tbnid=wREWCZWOjCzPuM:&amp;tbnh=127&amp;tbnw=99&amp;prev=/images?q=leg&amp;gbv=2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38.photobucket.com/albums/e145/kaberly/20-PegGame_LG.jpg&amp;imgrefurl=http://kabersblog.blogspot.com/2007_05_01_archive.html&amp;usg=__uReEz4Px5hGsVdhFvd3wMkPmiqw=&amp;h=341&amp;w=350&amp;sz=23&amp;hl=EN&amp;start=27&amp;tbnid=cRZzIjc4U6NnrM:&amp;tbnh=117&amp;tbnw=120&amp;prev=/images?q=peg&amp;gbv=2&amp;ndsp=20&amp;hl=EN&amp;sa=N&amp;start=20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farm3.static.flickr.com/2200/1820595684_06c5774851.jpg?v=0&amp;imgrefurl=http://flickr.com/photos/17328648@N00/1820595684/&amp;usg=__YNYGT8rOYPOnql0DWLc71DQUN6k=&amp;h=375&amp;w=500&amp;sz=124&amp;hl=EN&amp;start=31&amp;tbnid=hl6jCXm9phn74M:&amp;tbnh=98&amp;tbnw=130&amp;prev=/images?q=coffee+dreg&amp;gbv=2&amp;ndsp=20&amp;hl=EN&amp;sa=N&amp;start=20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2026/05/2026_05_1---P-O-Pride-of-Bilbao-Ferry_web.jpg&amp;imgrefurl=http://www.freefoto.com/preview/2026-05-1?ffid=2026-05-1&amp;usg=__ES7DVbY23hyEQ6wiIJk21nHEa_Q=&amp;h=400&amp;w=600&amp;sz=72&amp;hl=EN&amp;start=3&amp;tbnid=ykRc5Xnc4GMOHM:&amp;tbnh=90&amp;tbnw=135&amp;prev=/images?q=ferry&amp;gbv=2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bowenhomes.ca/images/ferry.jpg&amp;imgrefurl=http://www.bowenhomes.ca/about_bowen.html&amp;usg=__R6vBd5R4z0eaLBLm4nqX6uW4Brk=&amp;h=389&amp;w=600&amp;sz=127&amp;hl=EN&amp;start=23&amp;tbnid=jq9ggA0wtlFUTM:&amp;tbnh=88&amp;tbnw=135&amp;prev=/images?q=ferry&amp;gbv=2&amp;ndsp=20&amp;hl=EN&amp;sa=N&amp;start=20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d.emule.com/fondo-papa-noel-merry-christmas/fondo-papa-noel-merry-christmas.jpg&amp;imgrefurl=http://software.emule.com/sc/christmas-wallpapers/&amp;usg=__eZ0yngpkNL1aOEN1OTkRGhaxSt8=&amp;h=768&amp;w=1024&amp;sz=180&amp;hl=EN&amp;start=11&amp;tbnid=tDGe2GG1AwFJXM:&amp;tbnh=113&amp;tbnw=150&amp;prev=/images?q=merry&amp;gbv=2&amp;hl=E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www.freefoto.com/images/11/06/11_06_14---Merry-go-round--The-Hoppings--Newcastle-upon-Tyne_web.jpg&amp;imgrefurl=http://www.freefoto.com/preview/11-06-14?ffid=11-06-14&amp;usg=__cIQYgVMhV47UIU-jvE33Leobz-k=&amp;h=400&amp;w=600&amp;sz=190&amp;hl=EN&amp;start=54&amp;tbnid=1raNuXIoe6NThM:&amp;tbnh=90&amp;tbnw=135&amp;prev=/images?q=merry&amp;gbv=2&amp;ndsp=20&amp;hl=EN&amp;sa=N&amp;start=40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upload.wikimedia.org/wikipedia/commons/f/f1/Cherry.JPG&amp;imgrefurl=http://en.wikipedia.org/wiki/File:Cherry.JPG&amp;usg=__F8Psl6u2o9DfQyBuXwbU2IEmPqI=&amp;h=480&amp;w=640&amp;sz=165&amp;hl=EN&amp;start=24&amp;tbnid=wbu2GGJ5pGCwuM:&amp;tbnh=103&amp;tbnw=137&amp;prev=/images?q=cherry&amp;gbv=2&amp;ndsp=20&amp;hl=EN&amp;sa=N&amp;start=20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www.americaslibrary.gov/assets/jb/progress/jb_progress_cherry_2_e.jpg&amp;imgrefurl=http://www.americaslibrary.gov/jb/progress/jb_progress_cherry_2_e.html&amp;usg=___VTOcHW3jz4sOm6t_0Ha8PRn02c=&amp;h=360&amp;w=530&amp;sz=79&amp;hl=EN&amp;start=36&amp;tbnid=gELD5U7OoVutMM:&amp;tbnh=90&amp;tbnw=132&amp;prev=/images?q=cherry&amp;gbv=2&amp;ndsp=20&amp;hl=EN&amp;sa=N&amp;start=20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Life%20Cycle%20of%20a%20Pumpkin.htm" TargetMode="External"/><Relationship Id="rId2" Type="http://schemas.openxmlformats.org/officeDocument/2006/relationships/hyperlink" Target="http://www.scottsboro.org/~flewis/SF%20Reading%20Street/spellmaster/Life%20Cycle%20of%20a%20Pumpkin/jigword2.html" TargetMode="External"/><Relationship Id="rId3" Type="http://schemas.openxmlformats.org/officeDocument/2006/relationships/hyperlink" Target="http://www.scottsboro.org/~flewis/SF%20Reading%20Street/spellmaster/Life%20Cycle%20of%20a%20Pumpkin/matchword2.html" TargetMode="External"/><Relationship Id="rId4" Type="http://schemas.openxmlformats.org/officeDocument/2006/relationships/hyperlink" Target="http://www.scottsboro.org/~flewis/SF%20Reading%20Street/spellmaster/Life%20Cycle%20of%20a%20Pumpkin/speedword2.html" TargetMode="External"/><Relationship Id="rId5" Type="http://schemas.openxmlformats.org/officeDocument/2006/relationships/hyperlink" Target="http://www.scottsboro.org/~flewis/SF%20Reading%20Street/spellmaster/Life%20Cycle%20of%20a%20Pumpkin/wordsearch2.html" TargetMode="External"/><Relationship Id="rId6" Type="http://schemas.openxmlformats.org/officeDocument/2006/relationships/hyperlink" Target="http://www.scottsboro.org/~flewis/SF%20Reading%20Street/spellmaster/Life%20Cycle%20of%20a%20Pumpkin/wordweb.html" TargetMode="External"/><Relationship Id="rId7" Type="http://schemas.openxmlformats.org/officeDocument/2006/relationships/hyperlink" Target="http://www.spellingcity.com/index.php?option=com_spellcity&amp;task=viewList&amp;listId=793558" TargetMode="External"/><Relationship Id="rId8" Type="http://schemas.openxmlformats.org/officeDocument/2006/relationships/hyperlink" Target="http://www.spellingcity.com/index.php?option=com_spellcity&amp;task=viewList&amp;listId=825541" TargetMode="External"/><Relationship Id="rId9" Type="http://schemas.openxmlformats.org/officeDocument/2006/relationships/hyperlink" Target="http://www.scottsboro.org/~flewis/SF%20Reading%20Street/spellmaster/Life%20Cycle%20of%20a%20Pumpkin%20Spelling/speedword2.html" TargetMode="External"/><Relationship Id="rId10" Type="http://schemas.openxmlformats.org/officeDocument/2006/relationships/hyperlink" Target="http://www.scottsboro.org/~flewis/SF%20Reading%20Street/spellmaster/Life%20Cycle%20of%20a%20Pumpkin%20Spelling/wordweb.html" TargetMode="External"/><Relationship Id="rId11" Type="http://schemas.openxmlformats.org/officeDocument/2006/relationships/hyperlink" Target="http://www.quia.com/rd/58426.html" TargetMode="External"/><Relationship Id="rId12" Type="http://schemas.openxmlformats.org/officeDocument/2006/relationships/hyperlink" Target="http://www.quia.com/rd/58426.html" TargetMode="External"/><Relationship Id="rId13" Type="http://schemas.openxmlformats.org/officeDocument/2006/relationships/hyperlink" Target="http://www.spellingcity.com/index.php?option=com_spellcity&amp;Itemid=122&amp;task=viewList&amp;listId=354270" TargetMode="External"/><Relationship Id="rId14" Type="http://schemas.openxmlformats.org/officeDocument/2006/relationships/hyperlink" Target="ttp://www.spellingcity.com/index.php?option=com_spellcity&amp;Itemid=&amp;task=lineMatchGame" TargetMode="External"/><Relationship Id="rId15" Type="http://schemas.openxmlformats.org/officeDocument/2006/relationships/hyperlink" Target="http://www.spellingcity.com/index.php?option=com_spellcity&amp;task=viewList&amp;listId=793579" TargetMode="External"/><Relationship Id="rId16" Type="http://schemas.openxmlformats.org/officeDocument/2006/relationships/hyperlink" Target="http://www.spellingcity.com/index.php?option=com_spellcity&amp;task=viewList&amp;listId=793579" TargetMode="External"/><Relationship Id="rId1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crossword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lineMatchGame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vid-laserscanner.com/wiki/_media/user_manual/image_cut_paper1.jpg&amp;imgrefurl=http://www.david-laserscanner.com/wiki/user_manual/getting_started&amp;usg=__ciaT3j-HZokniKSKSrBmEUg_ZdQ=&amp;h=401&amp;w=475&amp;sz=27&amp;hl=EN&amp;start=9&amp;tbnid=9NwQO95LaO9TQM:&amp;tbnh=109&amp;tbnw=129&amp;prev=/images?q=cut&amp;gbv=2&amp;hl=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upload.wikimedia.org/wikibooks/en/7/74/Anatomy_and_physiology_of_animals_Typical_mammalian_gut.jpg&amp;imgrefurl=http://en.wikibooks.org/wiki/Anatomy_and_Physiology_of_Animals/The_Gut_and_Digestion&amp;usg=__dOuSqKfnf7hBCVHSvdFI7QkHYLk=&amp;h=568&amp;w=579&amp;sz=57&amp;hl=EN&amp;start=2&amp;tbnid=qBwQ-U8ZDw358M:&amp;tbnh=131&amp;tbnw=134&amp;prev=/images?q=gut&amp;gbv=2&amp;hl=EN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hickerphoto.com/data/media/185/stone-hut_14484.jpg&amp;imgrefurl=http://www.hickerphoto.com/stone-hut-pyrenees-spain-14484-pictures.htm&amp;usg=__53hGecZCdo7nooi5ldsEX4chsHM=&amp;h=311&amp;w=468&amp;sz=54&amp;hl=EN&amp;start=19&amp;tbnid=tO1Q3ykalI9YpM:&amp;tbnh=85&amp;tbnw=128&amp;prev=/images?q=hut&amp;gbv=2&amp;hl=EN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img2.allposters.com/images/NGSPOD/111584-FB.jpg&amp;imgrefurl=https://www.allposters.com/-sp/Five-Spires-Dubbed-the-Hand-of-Fatima-Jut-out-of-the-Flat-Desert-Posters_i3572374_.htm&amp;usg=__Mko41MhATpxbbM0yUP-pFCNCCP8=&amp;h=450&amp;w=338&amp;sz=36&amp;hl=EN&amp;start=47&amp;tbnid=jVjdKvEQSGDoAM:&amp;tbnh=127&amp;tbnw=95&amp;prev=/images?q=jut&amp;gbv=2&amp;ndsp=20&amp;hl=EN&amp;sa=N&amp;start=40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cdn-www.dailypuppy.com/media/dogs/anonymous/sutter_mutt_10.jpg&amp;imgrefurl=http://www.dailypuppy.com/puppies/sutter-the-mutt_2007-07-13&amp;usg=__L745qAl7dwwYpMWliZPQjd2Tf28=&amp;h=820&amp;w=900&amp;sz=172&amp;hl=EN&amp;start=4&amp;tbnid=X1Vi2LS9FY6dvM:&amp;tbnh=133&amp;tbnw=146&amp;prev=/images?q=mutt&amp;gbv=2&amp;hl=EN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botit.botany.wisc.edu/images/130/Fruits/Acorns_(nut)_MC_.jpg&amp;imgrefurl=http://botit.botany.wisc.edu/images/130/Fruits/Acorns_(nut)_MC_.html&amp;usg=__4QihKSQXOjv-52X-gfnhH3bSlF4=&amp;h=452&amp;w=640&amp;sz=55&amp;hl=EN&amp;start=3&amp;tbnid=j-e86v8rL-nizM:&amp;tbnh=97&amp;tbnw=137&amp;prev=/images?q=nut&amp;gbv=2&amp;hl=EN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farm1.static.flickr.com/179/476081793_aba23b843c.jpg&amp;imgrefurl=http://coolcatteacher.blogspot.com/2007/09/declare-war-on-ruts-boundaries-comfort.html&amp;usg=__jX9qaIJUeHlyfNsvxOQ4BS6gfvo=&amp;h=333&amp;w=500&amp;sz=155&amp;hl=EN&amp;start=8&amp;tbnid=SNwg7jKxHGxH7M:&amp;tbnh=87&amp;tbnw=130&amp;prev=/images?q=rut&amp;gbv=2&amp;hl=EN" TargetMode="External"/><Relationship Id="rId14" Type="http://schemas.openxmlformats.org/officeDocument/2006/relationships/image" Target="../media/image22.jpeg"/><Relationship Id="rId15" Type="http://schemas.openxmlformats.org/officeDocument/2006/relationships/hyperlink" Target="http://images.google.com/imgres?imgurl=http://2.bp.blogspot.com/_DLqYpb8-A40/SYnLu_Kz4xI/AAAAAAAAAmk/BFrsgbHeB7I/s400/shutdoor.jpg&amp;imgrefurl=http://whereholyfeethavetrod.blogspot.com/2009/02/shut-door-doctrine-ellen-white-gets-it.html&amp;usg=__nzeIw0b_eMjCz_rRc-fIuD-jROc=&amp;h=400&amp;w=300&amp;sz=32&amp;hl=EN&amp;start=1&amp;tbnid=Xi5q2CtoE7ENLM:&amp;tbnh=124&amp;tbnw=93&amp;prev=/images?q=shutdoor&amp;gbv=2&amp;hl=EN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images.google.com/imgres?imgurl=http://www.monroe.com.au/uploads/images/images/pic_294px_quick.jpg&amp;imgrefurl=http://www.monroe.com.au/products/quick-strut.html&amp;usg=__gOwpijbo73aUjXVlWTvjoc74Tpg=&amp;h=294&amp;w=294&amp;sz=14&amp;hl=EN&amp;start=99&amp;tbnid=8PacGlI-wsf9FM:&amp;tbnh=115&amp;tbnw=115&amp;prev=/images?q=strut&amp;gbv=2&amp;ndsp=20&amp;hl=EN&amp;sa=N&amp;start=80" TargetMode="External"/><Relationship Id="rId18" Type="http://schemas.openxmlformats.org/officeDocument/2006/relationships/image" Target="../media/image24.jpeg"/><Relationship Id="rId1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70.xml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slide" Target="slide72.xml"/><Relationship Id="rId6" Type="http://schemas.openxmlformats.org/officeDocument/2006/relationships/slide" Target="slide73.xml"/><Relationship Id="rId7" Type="http://schemas.openxmlformats.org/officeDocument/2006/relationships/slide" Target="slide74.xml"/><Relationship Id="rId8" Type="http://schemas.openxmlformats.org/officeDocument/2006/relationships/slide" Target="slide75.xml"/><Relationship Id="rId9" Type="http://schemas.openxmlformats.org/officeDocument/2006/relationships/slide" Target="slide76.xml"/><Relationship Id="rId10" Type="http://schemas.openxmlformats.org/officeDocument/2006/relationships/slide" Target="slide77.xml"/><Relationship Id="rId11" Type="http://schemas.openxmlformats.org/officeDocument/2006/relationships/slide" Target="slide78.xml"/><Relationship Id="rId12" Type="http://schemas.openxmlformats.org/officeDocument/2006/relationships/slide" Target="slide80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field-fare.com/assets/images/Californian_Fruit_Salad.JPG&amp;imgrefurl=http://matureamateur.wordpress.com/2008/06/29/fruit-salad-recipe/&amp;usg=__8H2_KMLwGsSzNclZsp9qi4O6o0Q=&amp;h=2048&amp;w=2048&amp;sz=300&amp;hl=en&amp;start=5&amp;tbnid=25xoC0o-PBzEtM:&amp;tbnh=150&amp;tbnw=150&amp;prev=/images?q=fruit&amp;gbv=2&amp;hl=en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m/imgres?imgurl=http://www.sendflowerstohyderabad.com/images/fruit4.jpg&amp;imgrefurl=http://www.sendflowerstohyderabad.com/fresh-fruits-hyderabad.htm&amp;usg=__EtylSEnrEuZ6PVtY2r3y2yrDsGY=&amp;h=302&amp;w=302&amp;sz=26&amp;hl=en&amp;start=8&amp;tbnid=vk4CHnKZDbfCfM:&amp;tbnh=116&amp;tbnw=116&amp;prev=/images?q=fruit&amp;gbv=2&amp;hl=en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images.google.com/imgres?imgurl=http://www.simplyclassicfruitbaskets.com/pic/fruit_festival_home.jpg&amp;imgrefurl=http://www.simplyclassicfruitbaskets.com/&amp;usg=__Mdz_zTB6MNWqpXrG88U7AyLfFhg=&amp;h=300&amp;w=345&amp;sz=29&amp;hl=en&amp;start=6&amp;tbnid=o9t99YUmoPL6-M:&amp;tbnh=104&amp;tbnw=120&amp;prev=/images?q=fruit&amp;gbv=2&amp;hl=en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images.google.com/imgres?imgurl=http://www.commissaries.com/news/news_2007/images/fruit.jpg&amp;imgrefurl=http://www.sodahead.com/question/120646/would-you-rather-have-fruit-or-vegtables/&amp;usg=__PYEjlyYwYroOV_J4KZuOilC2VIE=&amp;h=1704&amp;w=2272&amp;sz=1137&amp;hl=en&amp;start=20&amp;tbnid=5M157SJl755R2M:&amp;tbnh=113&amp;tbnw=150&amp;prev=/images?q=fruit&amp;gbv=2&amp;hl=en" TargetMode="External"/><Relationship Id="rId10" Type="http://schemas.openxmlformats.org/officeDocument/2006/relationships/image" Target="../media/image30.jpeg"/><Relationship Id="rId11" Type="http://schemas.openxmlformats.org/officeDocument/2006/relationships/hyperlink" Target="http://images.google.com/imgres?imgurl=http://sorghumco.files.wordpress.com/2008/06/small-fruit.jpg&amp;imgrefurl=http://sorghumco.wordpress.com/2008/06/20/small-fruit-season/&amp;usg=__KgoIIG11UylJfsCSGRf3v7ruem0=&amp;h=2304&amp;w=3072&amp;sz=1751&amp;hl=en&amp;start=30&amp;tbnid=HAMHKlj0v9n9BM:&amp;tbnh=113&amp;tbnw=150&amp;prev=/images?q=fruit&amp;start=20&amp;gbv=2&amp;ndsp=20&amp;hl=en&amp;sa=N" TargetMode="External"/><Relationship Id="rId12" Type="http://schemas.openxmlformats.org/officeDocument/2006/relationships/image" Target="../media/image31.jpeg"/><Relationship Id="rId13" Type="http://schemas.openxmlformats.org/officeDocument/2006/relationships/hyperlink" Target="http://images.google.com/imgres?imgurl=http://www.germes-online.com/direct/dbimage/50320578/Fruit_Candles.jpg&amp;imgrefurl=http://www.germes-online.com/catalog/44/121/346372/sell_fruit_candles.html&amp;usg=__4A7fu6rSB1eQ6z0fYCL-_z4W4h8=&amp;h=360&amp;w=360&amp;sz=31&amp;hl=en&amp;start=32&amp;tbnid=6duvSc4w4EZp5M:&amp;tbnh=121&amp;tbnw=121&amp;prev=/images?q=fruit&amp;start=20&amp;gbv=2&amp;ndsp=20&amp;hl=en&amp;sa=N" TargetMode="External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soilfoodweb.com.au/images/soilfoodweb.com.au/quality%2520compost.jpg&amp;imgrefurl=http://www.soilfoodweb.com.au/&amp;usg=__UsAG_ZDqz51gZsZ3f3VeQ1Bsx20=&amp;h=600&amp;w=793&amp;sz=163&amp;hl=en&amp;start=7&amp;tbnid=3SfLR95btuB_2M:&amp;tbnh=108&amp;tbnw=143&amp;prev=/images?q=soil&amp;gbv=2&amp;hl=en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ages.google.com/imgres?imgurl=http://www.claytoncramer.com/pictures/property/SandstoneSoilExtract.jpg&amp;imgrefurl=http://www.claytoncramer.com/weblog/2005_05_15_archive.html&amp;usg=__1ClxUtBVf5clcBrMZEa9fUF0MKU=&amp;h=600&amp;w=796&amp;sz=322&amp;hl=en&amp;start=4&amp;tbnid=qLANbYivqKaE1M:&amp;tbnh=108&amp;tbnw=143&amp;prev=/images?q=soil&amp;gbv=2&amp;hl=en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images.google.com/imgres?imgurl=http://www.mysciencebox.org/files/images/Soil%2520profile%2520Talbott.jpg&amp;imgrefurl=http://www.mysciencebox.org/explore/results/taxonomy:14&amp;usg=__Uk9BcQW9ZJwyS2iLaAVA6An2I2Y=&amp;h=850&amp;w=490&amp;sz=218&amp;hl=en&amp;start=3&amp;tbnid=bEz7lAUISIrbWM:&amp;tbnh=145&amp;tbnw=84&amp;prev=/images?q=soil&amp;gbv=2&amp;hl=en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images.google.com/imgres?imgurl=http://www.organicgardeninfo.com/images/soil-life.jpg&amp;imgrefurl=http://www.organicgardeninfo.com/soil.html&amp;usg=__93tcVr0hC55-CGv0ZlYfxa2fHBk=&amp;h=351&amp;w=396&amp;sz=22&amp;hl=en&amp;start=8&amp;tbnid=kv8OAH12QQyhhM:&amp;tbnh=110&amp;tbnw=124&amp;prev=/images?q=soil&amp;gbv=2&amp;hl=en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images.google.com/imgres?imgurl=http://i.ehow.com/images/GlobalPhoto/Articles/2199658/soil1-main_Full.jpg&amp;imgrefurl=http://www.ehow.com/how_2199658_build-good-soil.html&amp;usg=__JUwQGxxC0cc59x77W4WuwekSlFY=&amp;h=599&amp;w=546&amp;sz=141&amp;hl=en&amp;start=16&amp;tbnid=9gFPGOcse-4k2M:&amp;tbnh=135&amp;tbnw=123&amp;prev=/images?q=soil&amp;gbv=2&amp;hl=en" TargetMode="External"/><Relationship Id="rId12" Type="http://schemas.openxmlformats.org/officeDocument/2006/relationships/image" Target="../media/image37.jpeg"/><Relationship Id="rId13" Type="http://schemas.openxmlformats.org/officeDocument/2006/relationships/hyperlink" Target="http://images.google.com/imgres?imgurl=http://www.kidsgeo.com/images/soil-develops.gif&amp;imgrefurl=http://www.kidsgeo.com/geology-for-kids/0003-soil-forming-factors.php&amp;usg=__kbaWdp-7U3kIqYO_dxwkHK9HHbs=&amp;h=452&amp;w=305&amp;sz=76&amp;hl=en&amp;start=32&amp;tbnid=qE8mpdIJuEblpM:&amp;tbnh=127&amp;tbnw=86&amp;prev=/images?q=soil&amp;start=20&amp;gbv=2&amp;ndsp=20&amp;hl=en&amp;sa=N" TargetMode="External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hyperlink" Target="http://images.google.com/imgres?imgurl=http://ic.ucsc.edu/~wxcheng/wewu/images/roots.jpg&amp;imgrefurl=http://ic.ucsc.edu/~wxcheng/wewu/links.html&amp;usg=__y9cIgxlzALZnd9t6ddr-WtBma5Q=&amp;h=402&amp;w=323&amp;sz=19&amp;hl=en&amp;start=2&amp;tbnid=0nUxsW1x8YR-MM:&amp;tbnh=124&amp;tbnw=100&amp;prev=/images?q=root&amp;gbv=2&amp;hl=en&amp;sa=G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images.google.com/imgres?imgurl=http://plant-disease.ippc.orst.edu/plant_images/StrawberryRootLesion.JPG&amp;imgrefurl=http://plant-disease.ippc.orst.edu/disease.cfm?RecordID=1047&amp;usg=__65lnLVjhvkA_LOLObqh7n4jQuFw=&amp;h=343&amp;w=504&amp;sz=63&amp;hl=en&amp;start=3&amp;tbnid=LUsVvXIH9Ju_aM:&amp;tbnh=88&amp;tbnw=130&amp;prev=/images?q=root&amp;gbv=2&amp;hl=en&amp;sa=G" TargetMode="External"/><Relationship Id="rId5" Type="http://schemas.openxmlformats.org/officeDocument/2006/relationships/image" Target="../media/image40.jpeg"/><Relationship Id="rId6" Type="http://schemas.openxmlformats.org/officeDocument/2006/relationships/hyperlink" Target="http://images.google.com/imgres?imgurl=http://antisyphus.typepad.com/photos/uncategorized/root1.jpg&amp;imgrefurl=http://antisyphus.typepad.com/blog/root_cause_analysis/&amp;usg=__WOj-pxXz1x4wf4uSrULu6UbA9Ns=&amp;h=421&amp;w=285&amp;sz=145&amp;hl=en&amp;start=5&amp;tbnid=RenVP8E5IGNwjM:&amp;tbnh=125&amp;tbnw=85&amp;prev=/images?q=root&amp;gbv=2&amp;hl=en&amp;sa=G" TargetMode="External"/><Relationship Id="rId7" Type="http://schemas.openxmlformats.org/officeDocument/2006/relationships/image" Target="../media/image41.jpeg"/><Relationship Id="rId8" Type="http://schemas.openxmlformats.org/officeDocument/2006/relationships/hyperlink" Target="http://images.google.com/imgres?imgurl=http://www.infovisual.info/01/img_en/051%2520Vegetables%2520-%2520root%2520(1).jpg&amp;imgrefurl=http://www.infovisual.info/01/051_en.html&amp;usg=__oDED_9k0LK_lYjaeWOP6IHhSHGg=&amp;h=384&amp;w=539&amp;sz=66&amp;hl=en&amp;start=9&amp;tbnid=luz2RapIUVCasM:&amp;tbnh=94&amp;tbnw=132&amp;prev=/images?q=root&amp;gbv=2&amp;hl=en&amp;sa=G" TargetMode="External"/><Relationship Id="rId9" Type="http://schemas.openxmlformats.org/officeDocument/2006/relationships/image" Target="../media/image42.jpeg"/><Relationship Id="rId10" Type="http://schemas.openxmlformats.org/officeDocument/2006/relationships/hyperlink" Target="http://images.google.com/imgres?imgurl=http://www.missouriplants.com/Yellowalt/Physalis_pubescens_root.jpg&amp;imgrefurl=http://www.missouriplants.com/Yellowalt/Physalis_pubescens_page.html&amp;usg=__m1zQAyYxCOnGBAOkYnm1TJ5EGow=&amp;h=410&amp;w=335&amp;sz=50&amp;hl=en&amp;start=51&amp;tbnid=tzC4WVUFtgftaM:&amp;tbnh=125&amp;tbnw=102&amp;prev=/images?q=root&amp;start=40&amp;gbv=2&amp;ndsp=20&amp;hl=en&amp;sa=N" TargetMode="External"/><Relationship Id="rId11" Type="http://schemas.openxmlformats.org/officeDocument/2006/relationships/image" Target="../media/image43.jpeg"/><Relationship Id="rId12" Type="http://schemas.openxmlformats.org/officeDocument/2006/relationships/hyperlink" Target="http://images.google.com/imgres?imgurl=http://www.tomhelveydds.com/images/root01.gif&amp;imgrefurl=http://www.tomhelveydds.com/rootcanal.htm&amp;usg=__obh7tFIbPxxgXsnMzFXNsfz0UuY=&amp;h=300&amp;w=300&amp;sz=49&amp;hl=en&amp;start=110&amp;tbnid=D6n6L-HkrSK4QM:&amp;tbnh=116&amp;tbnw=116&amp;prev=/images?q=root&amp;start=100&amp;gbv=2&amp;ndsp=20&amp;hl=en&amp;sa=N" TargetMode="External"/><Relationship Id="rId13" Type="http://schemas.openxmlformats.org/officeDocument/2006/relationships/image" Target="../media/image44.jpeg"/><Relationship Id="rId1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decorvillage.files.wordpress.com/2007/11/fall-harvest.jpg&amp;imgrefurl=http://decorvillage.wordpress.com/&amp;usg=__KsjBt-t0faWzB3Qye1ZhIV-neSg=&amp;h=600&amp;w=800&amp;sz=191&amp;hl=en&amp;start=1&amp;tbnid=Wt2kEtcLPhUW0M:&amp;tbnh=107&amp;tbnw=143&amp;prev=/images?q=harvest&amp;gbv=2&amp;hl=en&amp;sa=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images.google.com/imgres?imgurl=http://www.salvationarmysouth.org/spiritualformation/images/harvest.jpg&amp;imgrefurl=http://www.salvationarmysouth.org/spiritualformation/Missions.htm&amp;usg=__aA9APKisl5lFDRAt2j6D_cDvLQg=&amp;h=1024&amp;w=689&amp;sz=293&amp;hl=en&amp;start=2&amp;tbnid=kgH4mqql394e4M:&amp;tbnh=150&amp;tbnw=101&amp;prev=/images?q=harvest&amp;gbv=2&amp;hl=en&amp;sa=G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images.google.com/imgres?imgurl=http://www.chehalemwines.com/harvest07/images/1102_ridgecrest_after_harvest_big.jpg&amp;imgrefurl=http://www.chehalemwines.com/harvest07/index.html&amp;usg=__dIcJefE3ncq3cHmfIWncfNQru6I=&amp;h=307&amp;w=450&amp;sz=29&amp;hl=en&amp;start=4&amp;tbnid=yYkKX5OYefQouM:&amp;tbnh=87&amp;tbnw=127&amp;prev=/images?q=harvest&amp;gbv=2&amp;hl=en&amp;sa=G" TargetMode="External"/><Relationship Id="rId8" Type="http://schemas.openxmlformats.org/officeDocument/2006/relationships/image" Target="../media/image47.jpeg"/><Relationship Id="rId9" Type="http://schemas.openxmlformats.org/officeDocument/2006/relationships/hyperlink" Target="http://images.google.com/imgres?imgurl=http://www.extension.iastate.edu/NR/rdonlyres/1405E583-CE4C-4F1D-9832-139E87810E56/65620/HarvestGrainStover.JPG&amp;imgrefurl=http://www.extension.iastate.edu/news/2007/oct/071702.htm&amp;usg=__oHwlWAFAD7HGhKsycskUq_oTbks=&amp;h=900&amp;w=1200&amp;sz=977&amp;hl=en&amp;start=14&amp;tbnid=1UqZu6JDqLZHBM:&amp;tbnh=113&amp;tbnw=150&amp;prev=/images?q=harvest&amp;gbv=2&amp;hl=en&amp;sa=G" TargetMode="External"/><Relationship Id="rId10" Type="http://schemas.openxmlformats.org/officeDocument/2006/relationships/image" Target="../media/image48.jpeg"/><Relationship Id="rId11" Type="http://schemas.openxmlformats.org/officeDocument/2006/relationships/hyperlink" Target="http://images.google.com/imgres?imgurl=http://upload.wikimedia.org/wikipedia/commons/6/64/Harvest_Hay_Bales_in_SH.jpg&amp;imgrefurl=http://commons.wikimedia.org/wiki/File:Harvest_Hay_Bales_in_SH.jpg&amp;usg=__EpzwxLUxoIv9W3Pbzoz1TdSAwpY=&amp;h=2000&amp;w=3008&amp;sz=2741&amp;hl=en&amp;start=21&amp;tbnid=hIUiv_dQiZrZ8M:&amp;tbnh=100&amp;tbnw=150&amp;prev=/images?q=harvest&amp;start=20&amp;gbv=2&amp;ndsp=20&amp;hl=en&amp;sa=N" TargetMode="External"/><Relationship Id="rId12" Type="http://schemas.openxmlformats.org/officeDocument/2006/relationships/image" Target="../media/image49.jpeg"/><Relationship Id="rId13" Type="http://schemas.openxmlformats.org/officeDocument/2006/relationships/hyperlink" Target="http://images.google.com/imgres?imgurl=http://www2.valeroyal.gov.uk/internet/baseres.nsf/all/pg_fs_harvest.jpg/$File/pg_fs_harvest.jpg&amp;imgrefurl=http://www2.valeroyal.gov.uk/internet/vr.nsf/AllByUniqueIdentifier/DOCD67F1AAB88DDD721802571CB0040DCFE&amp;usg=__wPWYpahdcwY9w9g6TuPLG3_hF_0=&amp;h=681&amp;w=1019&amp;sz=287&amp;hl=en&amp;start=36&amp;tbnid=Nbiq6MMvRUsYNM:&amp;tbnh=100&amp;tbnw=150&amp;prev=/images?q=harvest&amp;start=20&amp;gbv=2&amp;ndsp=20&amp;hl=en&amp;sa=N" TargetMode="External"/><Relationship Id="rId14" Type="http://schemas.openxmlformats.org/officeDocument/2006/relationships/image" Target="../media/image50.jpeg"/><Relationship Id="rId15" Type="http://schemas.openxmlformats.org/officeDocument/2006/relationships/hyperlink" Target="http://images.google.com/imgres?imgurl=http://www.stormhoek.com/archives/Pinotage%2520harvest%252002%252006.jpg&amp;imgrefurl=http://www.stormhoek.com/archives/2006/02/&amp;usg=__wC28dOj52gvKHXScZauphfe_YwA=&amp;h=359&amp;w=480&amp;sz=49&amp;hl=en&amp;start=75&amp;tbnid=TJ2PZa67iP7kvM:&amp;tbnh=96&amp;tbnw=129&amp;prev=/images?q=harvest&amp;start=60&amp;gbv=2&amp;ndsp=20&amp;hl=en&amp;sa=N" TargetMode="External"/><Relationship Id="rId16" Type="http://schemas.openxmlformats.org/officeDocument/2006/relationships/image" Target="../media/image51.jpeg"/><Relationship Id="rId1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gertens.com/sites/default/files/images/Climbing%2520vine.jpg&amp;imgrefurl=http://www.gertens.com/learn/howtos/topics/climbingvines&amp;usg=__eT2ulToOpC2CxbfH8gWisrhCVDE=&amp;h=471&amp;w=336&amp;sz=48&amp;hl=en&amp;start=9&amp;tbnid=w0EZvATTSBmXNM:&amp;tbnh=129&amp;tbnw=92&amp;prev=/images?q=vine&amp;gbv=2&amp;hl=en" TargetMode="External"/><Relationship Id="rId4" Type="http://schemas.openxmlformats.org/officeDocument/2006/relationships/image" Target="../media/image52.jpeg"/><Relationship Id="rId5" Type="http://schemas.openxmlformats.org/officeDocument/2006/relationships/hyperlink" Target="http://images.google.com/imgres?imgurl=http://bonsaibc.ca/peninsula/Blue_Berry_Vine__T.JPG&amp;imgrefurl=http://bonsaibc.ca/peninsula/VINES.htm&amp;usg=__OegsWBBHbDqn993sZKXJWMWxr6A=&amp;h=447&amp;w=643&amp;sz=115&amp;hl=en&amp;start=31&amp;tbnid=Ufl0vWoyOmR0EM:&amp;tbnh=95&amp;tbnw=137&amp;prev=/images?q=vine&amp;start=20&amp;gbv=2&amp;ndsp=20&amp;hl=en&amp;sa=N" TargetMode="External"/><Relationship Id="rId6" Type="http://schemas.openxmlformats.org/officeDocument/2006/relationships/image" Target="../media/image53.jpeg"/><Relationship Id="rId7" Type="http://schemas.openxmlformats.org/officeDocument/2006/relationships/hyperlink" Target="http://images.google.com/imgres?imgurl=http://bexar-tx.tamu.edu/HomeHort/F1Column/2006%2520Articles/Graphics/The%2520Butterfly%2520Vine%2520is%2520a%2520summer%2520bloomer%2520along%2520side%2520the%2520Pride%2520of%2520Barbados%2520at%2520the%2520San%2520Antonio%2520Garden.jpg&amp;imgrefurl=http://bexar-tx.tamu.edu/HomeHort/F1Column/2006%2520Articles/JULY24ButterflyVine.htm&amp;usg=__fCT1f_ZviPrr-Fh_qfkgfHGGGFM=&amp;h=529&amp;w=736&amp;sz=397&amp;hl=en&amp;start=34&amp;tbnid=DGmqdCqFITisoM:&amp;tbnh=101&amp;tbnw=141&amp;prev=/images?q=vine&amp;start=20&amp;gbv=2&amp;ndsp=20&amp;hl=en&amp;sa=N" TargetMode="External"/><Relationship Id="rId8" Type="http://schemas.openxmlformats.org/officeDocument/2006/relationships/image" Target="../media/image54.jpeg"/><Relationship Id="rId9" Type="http://schemas.openxmlformats.org/officeDocument/2006/relationships/hyperlink" Target="http://images.google.com/imgres?imgurl=http://upload.wikimedia.org/wikipedia/commons/6/60/Vine_on_palm_branch.jpg&amp;imgrefurl=http://commons.wikimedia.org/wiki/Image:Vine_on_palm_branch.jpg&amp;usg=__DUeli-oMyN_MVpYMpIG2wus5n2k=&amp;h=1536&amp;w=2048&amp;sz=1713&amp;hl=en&amp;start=49&amp;tbnid=ZPpEYd3Dc3qPIM:&amp;tbnh=113&amp;tbnw=150&amp;prev=/images?q=vine&amp;start=40&amp;gbv=2&amp;ndsp=20&amp;hl=en&amp;sa=N" TargetMode="External"/><Relationship Id="rId10" Type="http://schemas.openxmlformats.org/officeDocument/2006/relationships/image" Target="../media/image55.jpeg"/><Relationship Id="rId11" Type="http://schemas.openxmlformats.org/officeDocument/2006/relationships/hyperlink" Target="http://images.google.com/imgres?imgurl=http://k43.pbase.com/o4/46/598146/1/52732522.ClimbingVine.jpg&amp;imgrefurl=http://www.pbase.com/sucho/image/52732522&amp;usg=__DgNm40NSjhY6_VFHvoCf5tPWIkk=&amp;h=500&amp;w=323&amp;sz=54&amp;hl=en&amp;start=53&amp;tbnid=VpakPWXBvNwqtM:&amp;tbnh=130&amp;tbnw=84&amp;prev=/images?q=vine&amp;start=40&amp;gbv=2&amp;ndsp=20&amp;hl=en&amp;sa=N" TargetMode="External"/><Relationship Id="rId12" Type="http://schemas.openxmlformats.org/officeDocument/2006/relationships/image" Target="../media/image56.jpeg"/><Relationship Id="rId13" Type="http://schemas.openxmlformats.org/officeDocument/2006/relationships/hyperlink" Target="http://images.google.com/imgres?imgurl=http://mgonline.com/vanilla_vine01.jpg&amp;imgrefurl=http://mgonline.com/vines.html&amp;usg=__zdJBljnoT2zAmwC91tByh4d8utM=&amp;h=480&amp;w=640&amp;sz=136&amp;hl=en&amp;start=76&amp;tbnid=quP2tYWUa3KzsM:&amp;tbnh=103&amp;tbnw=137&amp;prev=/images?q=vine&amp;start=60&amp;gbv=2&amp;ndsp=20&amp;hl=en&amp;sa=N" TargetMode="External"/><Relationship Id="rId14" Type="http://schemas.openxmlformats.org/officeDocument/2006/relationships/image" Target="../media/image57.jpeg"/><Relationship Id="rId1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forestry.about.com/library/graphics/BumpySK.jpg&amp;imgrefurl=http://forums.about.com/ab-forestry/messages/?lgnF=y&amp;msg=3326.1&amp;usg=__tAdvndhmWjM-LioJi7OW4zyY3jo=&amp;h=450&amp;w=450&amp;sz=151&amp;hl=en&amp;start=2&amp;tbnid=nNmlszHIMTM4kM:&amp;tbnh=127&amp;tbnw=127&amp;prev=/images?q=bumpy&amp;gbv=2&amp;hl=en" TargetMode="External"/><Relationship Id="rId4" Type="http://schemas.openxmlformats.org/officeDocument/2006/relationships/image" Target="../media/image58.jpeg"/><Relationship Id="rId5" Type="http://schemas.openxmlformats.org/officeDocument/2006/relationships/hyperlink" Target="http://images.google.com/imgres?imgurl=http://www.mchenrycountyblog.com/uploaded_images/Crystal-Lake-foam-bumpy-741067.jpg&amp;imgrefurl=http://www.mchenrycountyblog.com/2007_04_01_mchenrycountyblog_archive.html&amp;usg=__8NkGsDigMTaYJhkGDpwnmDBA2A8=&amp;h=485&amp;w=730&amp;sz=74&amp;hl=en&amp;start=6&amp;tbnid=28o2mHr-QX3X0M:&amp;tbnh=94&amp;tbnw=141&amp;prev=/images?q=bumpy&amp;gbv=2&amp;hl=en" TargetMode="External"/><Relationship Id="rId6" Type="http://schemas.openxmlformats.org/officeDocument/2006/relationships/image" Target="../media/image59.jpeg"/><Relationship Id="rId7" Type="http://schemas.openxmlformats.org/officeDocument/2006/relationships/hyperlink" Target="http://images.google.com/imgres?imgurl=http://www.all4humor.com/images/files/Bumpy%2520Road.jpg&amp;imgrefurl=http://www.all4humor.com/picture/cool-pictures/bumpy-road.html&amp;usg=__bzSQ_VWxfybKGySZ5h5bxTYKLlE=&amp;h=433&amp;w=460&amp;sz=44&amp;hl=en&amp;start=5&amp;tbnid=jZu3LYVWQ8j9KM:&amp;tbnh=120&amp;tbnw=128&amp;prev=/images?q=bumpy&amp;gbv=2&amp;hl=en" TargetMode="External"/><Relationship Id="rId8" Type="http://schemas.openxmlformats.org/officeDocument/2006/relationships/image" Target="../media/image60.jpeg"/><Relationship Id="rId9" Type="http://schemas.openxmlformats.org/officeDocument/2006/relationships/hyperlink" Target="http://images.google.com/imgres?imgurl=http://www.room-to-fly.com/images/5in-bumpy_star.jpg&amp;imgrefurl=http://www.room-to-fly.com/star.html&amp;usg=__O0EwSMg5VPX0OBA-C88EhEI9XNw=&amp;h=493&amp;w=550&amp;sz=25&amp;hl=en&amp;start=7&amp;tbnid=TbxF5I8cJPuivM:&amp;tbnh=119&amp;tbnw=133&amp;prev=/images?q=bumpy&amp;gbv=2&amp;hl=en" TargetMode="External"/><Relationship Id="rId10" Type="http://schemas.openxmlformats.org/officeDocument/2006/relationships/image" Target="../media/image61.jpeg"/><Relationship Id="rId11" Type="http://schemas.openxmlformats.org/officeDocument/2006/relationships/hyperlink" Target="http://images.google.com/imgres?imgurl=http://allaboutfrogs.org/funstuff/funny/bumpy.jpg&amp;imgrefurl=http://allaboutfrogs.org/funstuff/funny/bumpy.html&amp;usg=__ItTmIj11o2u3JElgelWP31RH9D8=&amp;h=273&amp;w=421&amp;sz=30&amp;hl=en&amp;start=10&amp;tbnid=i7XsEwsUFEV59M:&amp;tbnh=81&amp;tbnw=125&amp;prev=/images?q=bumpy&amp;gbv=2&amp;hl=en" TargetMode="External"/><Relationship Id="rId12" Type="http://schemas.openxmlformats.org/officeDocument/2006/relationships/image" Target="../media/image62.jpeg"/><Relationship Id="rId13" Type="http://schemas.openxmlformats.org/officeDocument/2006/relationships/hyperlink" Target="http://images.google.com/imgres?imgurl=http://static.flickr.com/28/55086006_03ca191619_o.jpg&amp;imgrefurl=http://spacebar.blogsome.com/2005/10/22/&amp;usg=__EGpLaKTBLNosiSUSpt29-QNURWs=&amp;h=357&amp;w=360&amp;sz=175&amp;hl=en&amp;start=57&amp;tbnid=q3E51x2HvRkzOM:&amp;tbnh=120&amp;tbnw=121&amp;prev=/images?q=bumpy&amp;start=40&amp;gbv=2&amp;ndsp=20&amp;hl=en&amp;sa=N" TargetMode="External"/><Relationship Id="rId14" Type="http://schemas.openxmlformats.org/officeDocument/2006/relationships/image" Target="../media/image63.jpeg"/><Relationship Id="rId1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metoffice.gov.uk/education/images/water_cycle.jpg&amp;imgrefurl=http://www.metoffice.gov.uk/education/primary/students/watercycle.html&amp;usg=__dt3Hn5XUJcQ5-NZFxi6wgoOcCxM=&amp;h=326&amp;w=400&amp;sz=29&amp;hl=en&amp;start=3&amp;tbnid=wgtyUmGmxDAUzM:&amp;tbnh=101&amp;tbnw=124&amp;prev=/images?q=cycle&amp;gbv=2&amp;hl=en" TargetMode="External"/><Relationship Id="rId4" Type="http://schemas.openxmlformats.org/officeDocument/2006/relationships/image" Target="../media/image64.jpeg"/><Relationship Id="rId5" Type="http://schemas.openxmlformats.org/officeDocument/2006/relationships/hyperlink" Target="http://images.google.com/imgres?imgurl=http://www.infovisual.info/02/img_en/029%2520Life%2520cycle%2520of%2520a%2520frog.jpg&amp;imgrefurl=http://www.infovisual.info/02/029_en.html&amp;usg=__EisZmsCyNTDX96l7IcHz3HLHHTU=&amp;h=379&amp;w=431&amp;sz=69&amp;hl=en&amp;start=5&amp;tbnid=FzBTKA0_kbPZlM:&amp;tbnh=111&amp;tbnw=126&amp;prev=/images?q=cycle&amp;gbv=2&amp;hl=en" TargetMode="External"/><Relationship Id="rId6" Type="http://schemas.openxmlformats.org/officeDocument/2006/relationships/image" Target="../media/image65.jpeg"/><Relationship Id="rId7" Type="http://schemas.openxmlformats.org/officeDocument/2006/relationships/hyperlink" Target="http://images.google.com/imgres?imgurl=http://www.oum.ox.ac.uk/thezone/animals/life/images/cycle1.gif&amp;imgrefurl=http://www.oum.ox.ac.uk/thezone/animals/life/produce.htm&amp;usg=__wCTIFc3QsVC-enYJ3WH1-sAJhtI=&amp;h=360&amp;w=394&amp;sz=16&amp;hl=en&amp;start=32&amp;tbnid=WGcnM9CRd6PZZM:&amp;tbnh=113&amp;tbnw=124&amp;prev=/images?q=cycle&amp;start=20&amp;gbv=2&amp;ndsp=20&amp;hl=en&amp;sa=N" TargetMode="External"/><Relationship Id="rId8" Type="http://schemas.openxmlformats.org/officeDocument/2006/relationships/image" Target="../media/image66.jpeg"/><Relationship Id="rId9" Type="http://schemas.openxmlformats.org/officeDocument/2006/relationships/hyperlink" Target="http://images.google.com/imgres?imgurl=http://www.kidsgeo.com/images/nitrogen-cycle.gif&amp;imgrefurl=http://www.kidsgeo.com/geography-for-kids/0161-the-nitrogen-cycle.php&amp;usg=__MqGVPQ3-DAU1lCo1gu7vz2MKock=&amp;h=300&amp;w=350&amp;sz=25&amp;hl=en&amp;start=40&amp;tbnid=jT_Vg1e5d_h5_M:&amp;tbnh=103&amp;tbnw=120&amp;prev=/images?q=cycle&amp;start=20&amp;gbv=2&amp;ndsp=20&amp;hl=en&amp;sa=N" TargetMode="External"/><Relationship Id="rId10" Type="http://schemas.openxmlformats.org/officeDocument/2006/relationships/image" Target="../media/image67.jpeg"/><Relationship Id="rId11" Type="http://schemas.openxmlformats.org/officeDocument/2006/relationships/hyperlink" Target="http://images.google.com/imgres?imgurl=http://sabin.org/files/hookworm_life_cycle2.jpg&amp;imgrefurl=http://sabin.org/programs/hhvi/hookwormlifecycle.html&amp;usg=__G8P63lww7tEMF6MDRoETrKtzWec=&amp;h=600&amp;w=556&amp;sz=51&amp;hl=en&amp;start=102&amp;tbnid=quEPe3PLfRuqSM:&amp;tbnh=135&amp;tbnw=125&amp;prev=/images?q=cycle&amp;start=100&amp;gbv=2&amp;ndsp=20&amp;hl=en&amp;sa=N" TargetMode="External"/><Relationship Id="rId12" Type="http://schemas.openxmlformats.org/officeDocument/2006/relationships/image" Target="../media/image68.jpeg"/><Relationship Id="rId13" Type="http://schemas.openxmlformats.org/officeDocument/2006/relationships/hyperlink" Target="http://images.google.com/imgres?imgurl=http://www.mineraltown.com/infocoleccionar/imatges/rock_cycle.jpg&amp;imgrefurl=http://www.mineraltown.com/infocoleccionar/How_rocks_minerals_are_formed.htm&amp;usg=__kv3G2dAUroNuH4nIaycC-si_ssA=&amp;h=300&amp;w=400&amp;sz=28&amp;hl=en&amp;start=118&amp;tbnid=lOdF5hDczWsNtM:&amp;tbnh=93&amp;tbnw=124&amp;prev=/images?q=cycle&amp;start=100&amp;gbv=2&amp;ndsp=20&amp;hl=en&amp;sa=N" TargetMode="External"/><Relationship Id="rId14" Type="http://schemas.openxmlformats.org/officeDocument/2006/relationships/image" Target="../media/image69.jpeg"/><Relationship Id="rId1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fbhphotography.net/MichaelBiglerGalleries/Landscapes/fullsize/Wither_fs.jpg&amp;imgrefurl=http://fbhphotography.net/MichaelBiglerLandscapes.htm&amp;usg=__-vT5HimcwOske_BbiwRBX9ZaaKo=&amp;h=800&amp;w=600&amp;sz=315&amp;hl=en&amp;start=3&amp;tbnid=GcZWI4lii7dMMM:&amp;tbnh=143&amp;tbnw=107&amp;prev=/images?q=wither&amp;gbv=2&amp;hl=en" TargetMode="External"/><Relationship Id="rId4" Type="http://schemas.openxmlformats.org/officeDocument/2006/relationships/image" Target="../media/image70.jpeg"/><Relationship Id="rId5" Type="http://schemas.openxmlformats.org/officeDocument/2006/relationships/hyperlink" Target="http://images.google.com/imgres?imgurl=http://plant-disease.ippc.orst.edu/plant_images/drroot1.jpg&amp;imgrefurl=http://plant-disease.ippc.orst.edu/disease.cfm?RecordID=954&amp;usg=__0_6Yf_Qg1tengWzBPrj7S80AutY=&amp;h=379&amp;w=500&amp;sz=35&amp;hl=en&amp;start=7&amp;tbnid=72DYUHKG7QipvM:&amp;tbnh=99&amp;tbnw=130&amp;prev=/images?q=wither&amp;gbv=2&amp;hl=en" TargetMode="External"/><Relationship Id="rId6" Type="http://schemas.openxmlformats.org/officeDocument/2006/relationships/image" Target="../media/image71.jpeg"/><Relationship Id="rId7" Type="http://schemas.openxmlformats.org/officeDocument/2006/relationships/hyperlink" Target="http://images.google.com/imgres?imgurl=http://www.treehugger.com/CornWither.jpg&amp;imgrefurl=http://www.treehugger.com/files/2007/12/gm_corn_in_euro.php&amp;usg=__sbtpnOUhHJGMSAxBw6sRVEO0Cak=&amp;h=274&amp;w=468&amp;sz=102&amp;hl=en&amp;start=19&amp;tbnid=ruzZHddKuaoYEM:&amp;tbnh=75&amp;tbnw=128&amp;prev=/images?q=wither&amp;gbv=2&amp;hl=en" TargetMode="External"/><Relationship Id="rId8" Type="http://schemas.openxmlformats.org/officeDocument/2006/relationships/image" Target="../media/image72.jpeg"/><Relationship Id="rId9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hyperlink" Target="http://images.google.com/imgres?imgurl=http://easyweb.easynet.co.uk/~iany/patterns/images/pea_tendrils.jpg&amp;imgrefurl=http://easyweb.easynet.co.uk/~iany/patterns/pea_tendrils.htm&amp;usg=__MnKo8E-Nhjkz8D6FshO_HcmsH9I=&amp;h=543&amp;w=800&amp;sz=57&amp;hl=en&amp;start=2&amp;tbnid=CotW8E7rGEQL1M:&amp;tbnh=97&amp;tbnw=143&amp;prev=/images?q=tendrils&amp;gbv=2&amp;hl=en" TargetMode="External"/><Relationship Id="rId3" Type="http://schemas.openxmlformats.org/officeDocument/2006/relationships/image" Target="../media/image73.jpeg"/><Relationship Id="rId4" Type="http://schemas.openxmlformats.org/officeDocument/2006/relationships/hyperlink" Target="http://images.google.com/imgres?imgurl=http://www.ars.usda.gov/is/graphics/photos/sep05/d199-1i.jpg&amp;imgrefurl=http://www.ars.usda.gov/is/pr/2005/050915.htm?pf=1&amp;usg=__8NxSvBYF6FasFZU1HjClBNQmejY=&amp;h=244&amp;w=252&amp;sz=53&amp;hl=en&amp;start=6&amp;tbnid=P6HvCx2efg6yOM:&amp;tbnh=107&amp;tbnw=111&amp;prev=/images?q=tendrils&amp;gbv=2&amp;hl=en" TargetMode="External"/><Relationship Id="rId5" Type="http://schemas.openxmlformats.org/officeDocument/2006/relationships/image" Target="../media/image74.jpeg"/><Relationship Id="rId6" Type="http://schemas.openxmlformats.org/officeDocument/2006/relationships/hyperlink" Target="http://images.google.com/imgres?imgurl=http://www.sbs.utexas.edu/roxisteele/Shared%2520Documents/Pictures-PRandDR2007/1028%2520-%2520Psiguria%2520pedata%2520split%2520tendrils.jpg&amp;imgrefurl=http://www.sbs.utexas.edu/roxisteele/picturespranddr2007.htm&amp;usg=__S0rJ6RTHm54sjeilRm-bPSK4P8g=&amp;h=768&amp;w=1024&amp;sz=272&amp;hl=en&amp;start=7&amp;tbnid=xjV3d1mdI-vKNM:&amp;tbnh=113&amp;tbnw=150&amp;prev=/images?q=tendrils&amp;gbv=2&amp;hl=en" TargetMode="External"/><Relationship Id="rId7" Type="http://schemas.openxmlformats.org/officeDocument/2006/relationships/image" Target="../media/image75.jpeg"/><Relationship Id="rId8" Type="http://schemas.openxmlformats.org/officeDocument/2006/relationships/hyperlink" Target="http://images.google.com/imgres?imgurl=http://bp0.blogger.com/_D8VwTKAphks/RsU_WSk4x0I/AAAAAAAAFVI/S4cQ1w7v3mA/s400/tendrils.jpg&amp;imgrefurl=http://waycoolpictures.blogspot.com/2007_08_01_archive.html&amp;usg=__kZcVs0Oob8OkT_CaeAxqbkzyR64=&amp;h=400&amp;w=288&amp;sz=35&amp;hl=en&amp;start=19&amp;tbnid=M9QViIocFvK7sM:&amp;tbnh=124&amp;tbnw=89&amp;prev=/images?q=tendrils&amp;gbv=2&amp;hl=en" TargetMode="External"/><Relationship Id="rId9" Type="http://schemas.openxmlformats.org/officeDocument/2006/relationships/image" Target="../media/image76.jpeg"/><Relationship Id="rId10" Type="http://schemas.openxmlformats.org/officeDocument/2006/relationships/hyperlink" Target="http://images.google.com/imgres?imgurl=http://www.shortcourses.com/naturelog/cucumber1.jpg&amp;imgrefurl=http://www.shortcourses.com/naturelog/2003_07_01_month&amp;usg=__BFYk9nQYNYHoJdluc4DxqFuhDH4=&amp;h=281&amp;w=400&amp;sz=24&amp;hl=en&amp;start=26&amp;tbnid=Kq9Fq-4Yfnf-aM:&amp;tbnh=87&amp;tbnw=124&amp;prev=/images?q=tendrils&amp;start=20&amp;gbv=2&amp;ndsp=20&amp;hl=en&amp;sa=N" TargetMode="External"/><Relationship Id="rId11" Type="http://schemas.openxmlformats.org/officeDocument/2006/relationships/image" Target="../media/image77.jpeg"/><Relationship Id="rId12" Type="http://schemas.openxmlformats.org/officeDocument/2006/relationships/hyperlink" Target="http://images.google.com/imgres?imgurl=http://www.sbs.utexas.edu/bio406d/images/pics/vit/Ampelopsis%2520arborea%2520tendrils.jpg&amp;imgrefurl=http://www.sbs.utexas.edu/bio406d/images/pics/vit/ampelopsis_arborea.htm&amp;usg=__68n1AwTzcPvVikueGZalVDUm9h8=&amp;h=480&amp;w=640&amp;sz=57&amp;hl=en&amp;start=30&amp;tbnid=jssOyK9ZI_QNrM:&amp;tbnh=103&amp;tbnw=137&amp;prev=/images?q=tendrils&amp;start=20&amp;gbv=2&amp;ndsp=20&amp;hl=en&amp;sa=N" TargetMode="External"/><Relationship Id="rId13" Type="http://schemas.openxmlformats.org/officeDocument/2006/relationships/image" Target="../media/image78.jpeg"/><Relationship Id="rId1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0.xml"/><Relationship Id="rId3" Type="http://schemas.openxmlformats.org/officeDocument/2006/relationships/slide" Target="slide87.xml"/><Relationship Id="rId4" Type="http://schemas.openxmlformats.org/officeDocument/2006/relationships/slide" Target="slide105.xml"/><Relationship Id="rId5" Type="http://schemas.openxmlformats.org/officeDocument/2006/relationships/slide" Target="slide123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edfest.co.uk/seeds/beans/blue-lake-bean.jpg&amp;imgrefurl=http://www.seedfest.co.uk/seeds/beans/beans.html&amp;usg=__DKjgzocNsxLF_1muSBGdRuJxQSE=&amp;h=331&amp;w=515&amp;sz=259&amp;hl=EN&amp;start=26&amp;tbnid=6AfcqC0n4IL4CM:&amp;tbnh=84&amp;tbnw=131&amp;prev=/images?q=bean&amp;gbv=2&amp;ndsp=20&amp;hl=EN&amp;sa=N&amp;start=20" TargetMode="External"/><Relationship Id="rId2" Type="http://schemas.openxmlformats.org/officeDocument/2006/relationships/image" Target="../media/image80.jpeg"/><Relationship Id="rId3" Type="http://schemas.openxmlformats.org/officeDocument/2006/relationships/hyperlink" Target="http://images.google.com/imgres?imgurl=http://www.jou.ufl.edu/pubs/communigator/spring2006/images/hynes-desk.jpg&amp;imgrefurl=http://www.jou.ufl.edu/pubs/communigator/spring2006/coverstory.php&amp;usg=__dUu3x7gmLW2iJ-MraQkc6RqODXo=&amp;h=300&amp;w=450&amp;sz=30&amp;hl=EN&amp;start=49&amp;tbnid=1UV99WOGtXx_SM:&amp;tbnh=85&amp;tbnw=127&amp;prev=/images?q=college+dean&amp;gbv=2&amp;ndsp=20&amp;hl=EN&amp;sa=N&amp;start=40" TargetMode="External"/><Relationship Id="rId4" Type="http://schemas.openxmlformats.org/officeDocument/2006/relationships/image" Target="../media/image81.jpeg"/><Relationship Id="rId5" Type="http://schemas.openxmlformats.org/officeDocument/2006/relationships/hyperlink" Target="http://images.google.com/imgres?imgurl=http://i273.photobucket.com/albums/jj219/alohanema/weight-loss/200804/low-fat-cooking/lean-meat.jpg&amp;imgrefurl=http://letdiet.blogspot.com/2008/04/ten-low-fat-cooking-tips.html&amp;usg=__u5ESulY6zsQw7LUVsFeaZuDU0wU=&amp;h=336&amp;w=500&amp;sz=36&amp;hl=EN&amp;start=16&amp;tbnid=zgO2nHMp7t7kaM:&amp;tbnh=87&amp;tbnw=130&amp;prev=/images?q=leanmeat&amp;gbv=2&amp;hl=EN" TargetMode="External"/><Relationship Id="rId6" Type="http://schemas.openxmlformats.org/officeDocument/2006/relationships/image" Target="../media/image82.jpeg"/><Relationship Id="rId7" Type="http://schemas.openxmlformats.org/officeDocument/2006/relationships/hyperlink" Target="http://images.google.com/imgres?imgurl=http://i.ivillage.com/PP/tween_teen/bully_slideshow/girls_mean_325.jpg&amp;imgrefurl=http://parenting.ivillage.com/slideshow/parenting/pencils_books_and_dirty_looks/mean_girls_are_getting_meaner.html&amp;usg=__p8kTWDhjI0-Sip3_boUPkR42ZCk=&amp;h=445&amp;w=325&amp;sz=41&amp;hl=EN&amp;start=17&amp;tbnid=omyZn9WrMgTdXM:&amp;tbnh=127&amp;tbnw=93&amp;prev=/images?q=mean&amp;gbv=2&amp;hl=EN" TargetMode="External"/><Relationship Id="rId8" Type="http://schemas.openxmlformats.org/officeDocument/2006/relationships/image" Target="../media/image83.jpeg"/><Relationship Id="rId9" Type="http://schemas.openxmlformats.org/officeDocument/2006/relationships/hyperlink" Target="http://images.google.com/imgres?imgurl=http://i.ehow.com/images/GlobalPhoto/Articles/4586419/77212-main_Full.jpg&amp;imgrefurl=http://www.ehow.com/how_2142399_not-wean-baby-bottle.html&amp;usg=__5gXZO3YakU_PuIIDHg1Cwy0uya0=&amp;h=265&amp;w=300&amp;sz=10&amp;hl=EN&amp;start=34&amp;tbnid=c5qk7HFAcCnXHM:&amp;tbnh=102&amp;tbnw=116&amp;prev=/images?q=wean&amp;gbv=2&amp;ndsp=20&amp;hl=EN&amp;sa=N&amp;start=20" TargetMode="External"/><Relationship Id="rId10" Type="http://schemas.openxmlformats.org/officeDocument/2006/relationships/image" Target="../media/image84.jpeg"/><Relationship Id="rId11" Type="http://schemas.openxmlformats.org/officeDocument/2006/relationships/hyperlink" Target="http://images.google.com/imgres?imgurl=http://www.mariabuszek.com/kcai/101-80/IntroImages/Exam%25202/MilletGlean.jpg&amp;imgrefurl=http://www.mariabuszek.com/kcai/101-80/AcdmsImpr.htm&amp;usg=__HBOLLeOZDUQE2lPKSNJkGr1qhs8=&amp;h=418&amp;w=560&amp;sz=23&amp;hl=EN&amp;start=76&amp;tbnid=4_ivXbIsZUGayM:&amp;tbnh=99&amp;tbnw=133&amp;prev=/images?q=glean&amp;gbv=2&amp;ndsp=20&amp;hl=EN&amp;sa=N&amp;start=60" TargetMode="External"/><Relationship Id="rId12" Type="http://schemas.openxmlformats.org/officeDocument/2006/relationships/image" Target="../media/image85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lick to listen to story.</a:t>
            </a:r>
            <a:br>
              <a:rPr sz="36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2" descr="Life Cycle of a Pumpki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2057400"/>
            <a:ext cx="3254400" cy="365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Week 2"/>
          <p:cNvPicPr/>
          <p:nvPr/>
        </p:nvPicPr>
        <p:blipFill>
          <a:blip r:embed="rId3"/>
          <a:stretch/>
        </p:blipFill>
        <p:spPr>
          <a:xfrm>
            <a:off x="155520" y="46080"/>
            <a:ext cx="1114560" cy="21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as they grow older. 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ntonym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with opposite meanings.  Name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umpkins can be bumpy or smooth, large or small, long or r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mpy – sm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 – 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ng -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cok made a pumpkin pi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The cook made a pumpkin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o you like pud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o you like pudd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me people, places, animals, and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 nou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ell how nouns sound, smell, feel, look, and ta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so tell about the number, size, and shape of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 poem that explains how seeds know which way to g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Verdana"/>
              </a:rPr>
              <a:t>Wedn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 descriptive paragraph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out a smooth item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roots, soil, and nutrients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o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oi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an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an Annou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124080" y="114300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he Big Tr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bigger machines are the bulldozer and the pull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m</a:t>
            </a:r>
            <a:r>
              <a:rPr b="0" lang="ja-JP" sz="36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 baked pudding is tastier than any other in the worl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re you carrying those full boxes of books every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s is the easiest way to move the pushcart at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ook for the woman who writes in the tiniest noteb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you live near the sparkling brook in the woo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56" name="Picture 2" descr="http://tbn0.google.com/images?q=tbn:4QmEJgnU45eObM:http://www.freepressure.com/wp-content/uploads/2009/04/fig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1490760" cy="99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http://tbn2.google.com/images?q=tbn:tgLavvzaKwa6YM:http://asmo.jakki.org/wp/wp-content/uploads/gig-00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447920"/>
            <a:ext cx="1719360" cy="1295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http://tbn2.google.com/images?q=tbn:zdkO6tyulI6KEM:http://www.heartlandhunters.com/images/Outdoors/2007%2520Frog%2520Gig/Frog%2520Gig%2520Comp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1447920"/>
            <a:ext cx="1630080" cy="1218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http://tbn3.google.com/images?q=tbn:xxiriv5zDxCc8M:http://www.woodpeck.com/media/main_2right-angle-ji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3581280"/>
            <a:ext cx="1343160" cy="1219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http://tbn0.google.com/images?q=tbn:KV5sv4_OSpiBtM:http://www.lilhustler.com/i/main/main_musky_pro_jig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76520" y="358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2" descr="http://tbn0.google.com/images?q=tbn:B4WoEOYK_1q3xM:http://shmsmediacenter.files.wordpress.com/2009/03/st_pattys_day_jig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3520" y="3352680"/>
            <a:ext cx="838080" cy="15717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4" descr="http://tbn2.google.com/images?q=tbn:llYGDJBwU1pScM:http://2.bp.blogspot.com/_JJS1nankc_k/R1BIAz-4K5I/AAAAAAAAATE/nwW88v2OqSE/s1600-R/tamworth%2Bpig%2Band%2Bpiglet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105520" y="3581280"/>
            <a:ext cx="1361880" cy="1228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6" descr="http://tbn2.google.com/images?q=tbn:T5wyryAFwO6c2M:http://hotfile.files.wordpress.com/2008/08/oil-rig2.jpg"/>
          <p:cNvPicPr/>
          <p:nvPr/>
        </p:nvPicPr>
        <p:blipFill>
          <a:blip r:embed="rId15"/>
          <a:stretch/>
        </p:blipFill>
        <p:spPr>
          <a:xfrm>
            <a:off x="5791320" y="1523880"/>
            <a:ext cx="1544400" cy="1143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http://tbn3.google.com/images?q=tbn:qEM7dP9vFXl4IM:http://www.videos.sailingcourse.com/images/uphauling-the-rig.jpg"/>
          <p:cNvPicPr/>
          <p:nvPr/>
        </p:nvPicPr>
        <p:blipFill>
          <a:blip r:embed="rId16"/>
          <a:stretch/>
        </p:blipFill>
        <p:spPr>
          <a:xfrm>
            <a:off x="7543800" y="1523880"/>
            <a:ext cx="1324080" cy="119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0" descr="http://tbn1.google.com/images?q=tbn:uNgNLe-UwoWZ5M:http://www.completelybonkers.co.uk/images/categories/babe%2520wig%2520pink.jpg"/>
          <p:cNvPicPr/>
          <p:nvPr/>
        </p:nvPicPr>
        <p:blipFill>
          <a:blip r:embed="rId17"/>
          <a:stretch/>
        </p:blipFill>
        <p:spPr>
          <a:xfrm>
            <a:off x="1219320" y="54864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2" descr="http://tbn1.google.com/images?q=tbn:k2bdddqtt80icM:http://www.hnsa.org/ships/img/niagara1.jpg"/>
          <p:cNvPicPr/>
          <p:nvPr/>
        </p:nvPicPr>
        <p:blipFill>
          <a:blip r:embed="rId18"/>
          <a:stretch/>
        </p:blipFill>
        <p:spPr>
          <a:xfrm>
            <a:off x="6705720" y="5334120"/>
            <a:ext cx="1171440" cy="1304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4" descr="http://tbn0.google.com/images?q=tbn:2ybQGnTx_meAqM:http://www.yorktownsailor.com/yorktown/brig1.jpg"/>
          <p:cNvPicPr/>
          <p:nvPr/>
        </p:nvPicPr>
        <p:blipFill>
          <a:blip r:embed="rId19"/>
          <a:stretch/>
        </p:blipFill>
        <p:spPr>
          <a:xfrm>
            <a:off x="3809880" y="5562720"/>
            <a:ext cx="1190880" cy="904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6" descr="http://tbn0.google.com/images?q=tbn:mbAkO-Iih37Z1M:http://img.photobucket.com/albums/v665/hautlipz/swig_o_nog.jpg"/>
          <p:cNvPicPr/>
          <p:nvPr/>
        </p:nvPicPr>
        <p:blipFill>
          <a:blip r:embed="rId20"/>
          <a:stretch/>
        </p:blipFill>
        <p:spPr>
          <a:xfrm>
            <a:off x="6858000" y="3505320"/>
            <a:ext cx="1562040" cy="11714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5"/>
          <p:cNvSpPr/>
          <p:nvPr/>
        </p:nvSpPr>
        <p:spPr>
          <a:xfrm>
            <a:off x="772200" y="259092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Box 16"/>
          <p:cNvSpPr/>
          <p:nvPr/>
        </p:nvSpPr>
        <p:spPr>
          <a:xfrm>
            <a:off x="2600280" y="27432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Box 17"/>
          <p:cNvSpPr/>
          <p:nvPr/>
        </p:nvSpPr>
        <p:spPr>
          <a:xfrm>
            <a:off x="4086000" y="26668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rog g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Box 18"/>
          <p:cNvSpPr/>
          <p:nvPr/>
        </p:nvSpPr>
        <p:spPr>
          <a:xfrm>
            <a:off x="6334560" y="26668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Box 19"/>
          <p:cNvSpPr/>
          <p:nvPr/>
        </p:nvSpPr>
        <p:spPr>
          <a:xfrm>
            <a:off x="7934760" y="274320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706680" y="487692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Box 21"/>
          <p:cNvSpPr/>
          <p:nvPr/>
        </p:nvSpPr>
        <p:spPr>
          <a:xfrm>
            <a:off x="2001960" y="480060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Box 22"/>
          <p:cNvSpPr/>
          <p:nvPr/>
        </p:nvSpPr>
        <p:spPr>
          <a:xfrm>
            <a:off x="3754440" y="480060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Box 23"/>
          <p:cNvSpPr/>
          <p:nvPr/>
        </p:nvSpPr>
        <p:spPr>
          <a:xfrm>
            <a:off x="5495760" y="487692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Box 24"/>
          <p:cNvSpPr/>
          <p:nvPr/>
        </p:nvSpPr>
        <p:spPr>
          <a:xfrm>
            <a:off x="7183080" y="4648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w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2299680" y="57913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w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Box 26"/>
          <p:cNvSpPr/>
          <p:nvPr/>
        </p:nvSpPr>
        <p:spPr>
          <a:xfrm>
            <a:off x="5041440" y="579132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7936920" y="571500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Student Pages"/>
          <p:cNvPicPr/>
          <p:nvPr/>
        </p:nvPicPr>
        <p:blipFill>
          <a:blip r:embed="rId1"/>
          <a:stretch/>
        </p:blipFill>
        <p:spPr>
          <a:xfrm>
            <a:off x="152280" y="299880"/>
            <a:ext cx="876312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id You put away your ga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id you put away your gam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rad sh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Brad sho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0" lang="en-US" sz="36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1676520"/>
          <a:ext cx="822960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peaking and Liste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Speak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in a clear vo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slow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eye contact with listen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appropriate voic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ll all the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Listeners</a:t>
            </a: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 quie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e the speak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en to what the speaker s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questions if you don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 understand part of the announc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ke Connections:  Text to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day we read a poem about seeds.  Tomorrow we will hear again about how plants grow from s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getting use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something new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week we read about plants.  We learned about pumpkins and maple trees.  We also learned about other seeds.  How do seeds change as they grow into plant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rcle 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he Big Tr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971800" y="1066680"/>
          <a:ext cx="3352680" cy="527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3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____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____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dap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 – 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thing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, they change to fit new situations or surround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lant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a bigger p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dog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its new ho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famili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well to living in a different coun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___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___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___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___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hyming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soil so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root that it will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k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ff884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fruit so firm and </a:t>
            </a:r>
            <a:r>
              <a:rPr b="1" lang="en-US" sz="3200" spc="-1" strike="noStrike">
                <a:solidFill>
                  <a:srgbClr val="ff8840"/>
                </a:solidFill>
                <a:latin typeface="Verdana"/>
              </a:rPr>
              <a:t>f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smoot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l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bumpy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harvest time we will pick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h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took all the cook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bulldog likes the sock on my foo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nual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– nu - 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that happens one time a year is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plant that lives only one year or season is called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ourth of July parade in our 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amily reunion in Aug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crook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good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Match It Gam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5341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wagon is ful of pumpkin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wagon is full of pumpkin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strong wind sh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strong wind sho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way of showing information.  It is sometimes called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pi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ually cut a pie into pieces before eating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lso cut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to pieces to show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ntire circle stands for on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section in the circle graph is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see a large section, you know that it stands for a large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see a small section, you know that it stands for a small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ords and numbers in the sections of the graph show what part of the whole each section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Our Week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Verdana"/>
              </a:rPr>
              <a:t>Let</a:t>
            </a:r>
            <a:r>
              <a:rPr b="0" lang="ja-JP" sz="4800" spc="-1" strike="noStrike">
                <a:solidFill>
                  <a:srgbClr val="cccc00"/>
                </a:solidFill>
                <a:latin typeface="Verdana"/>
              </a:rPr>
              <a:t>’</a:t>
            </a:r>
            <a:r>
              <a:rPr b="0" lang="en-US" sz="4800" spc="-1" strike="noStrike">
                <a:solidFill>
                  <a:srgbClr val="cccc00"/>
                </a:solidFill>
                <a:latin typeface="Verdana"/>
              </a:rPr>
              <a:t>s Talk About Our Changing Worl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t-growing contes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nutrient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 – tri - 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re things like proteins, vitamins, and minerals that people, animals, or plants need in order to grow and be health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eat healthy food, you get a lot of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uits and vegetables have many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lated Link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ience Read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Abou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er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quaro Cac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Discovery Streaming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ide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ing Plants: Science in a School Garden (22:4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 Life Cycles (20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Plants Grow (19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bie Greenthumb: How Plants Grow (12:5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take our story test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28954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Verdana"/>
                <a:ea typeface="Verdana"/>
              </a:rPr>
              <a:t>Click to listen to </a:t>
            </a:r>
            <a:r>
              <a:rPr b="1" lang="ja-JP" sz="3200" spc="-1" strike="noStrike">
                <a:solidFill>
                  <a:srgbClr val="feec94"/>
                </a:solidFill>
                <a:latin typeface="Verdana"/>
                <a:ea typeface="Verdana"/>
              </a:rPr>
              <a:t>“</a:t>
            </a:r>
            <a:r>
              <a:rPr b="1" lang="en-US" sz="3200" spc="-1" strike="noStrike">
                <a:solidFill>
                  <a:srgbClr val="feec94"/>
                </a:solidFill>
                <a:latin typeface="Verdana"/>
                <a:ea typeface="Verdana"/>
              </a:rPr>
              <a:t>An Annual Event.</a:t>
            </a:r>
            <a:r>
              <a:rPr b="1" lang="ja-JP" sz="3200" spc="-1" strike="noStrike">
                <a:solidFill>
                  <a:srgbClr val="feec94"/>
                </a:solidFill>
                <a:latin typeface="Verdana"/>
                <a:ea typeface="Verdana"/>
              </a:rPr>
              <a:t>”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2" descr="An Annual Event"/>
          <p:cNvPicPr/>
          <p:nvPr/>
        </p:nvPicPr>
        <p:blipFill>
          <a:blip r:embed="rId1"/>
          <a:srcRect l="1516" t="1119" r="6065" b="17242"/>
          <a:stretch/>
        </p:blipFill>
        <p:spPr>
          <a:xfrm>
            <a:off x="3429000" y="246240"/>
            <a:ext cx="552456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vowel sound do you hear in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l learn that the vowels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an stand for the sound of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 in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7760" y="151920"/>
            <a:ext cx="60958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etters oo can stand for the vowel sound in book or in moon.  Context provides  the clue to pronunci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h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Content Placeholder 6" descr="card 38.jpg"/>
          <p:cNvPicPr/>
          <p:nvPr/>
        </p:nvPicPr>
        <p:blipFill>
          <a:blip r:embed="rId1"/>
          <a:stretch/>
        </p:blipFill>
        <p:spPr>
          <a:xfrm>
            <a:off x="152280" y="457200"/>
            <a:ext cx="27925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7760" y="609120"/>
            <a:ext cx="6095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etter u can stand for short u or the vowel sound in book.  Context provides the clue to pronunci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Content Placeholder 6" descr="card 38.jpg"/>
          <p:cNvPicPr/>
          <p:nvPr/>
        </p:nvPicPr>
        <p:blipFill>
          <a:blip r:embed="rId1"/>
          <a:stretch/>
        </p:blipFill>
        <p:spPr>
          <a:xfrm>
            <a:off x="152280" y="457200"/>
            <a:ext cx="27925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84400" y="2269800"/>
            <a:ext cx="67752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word stands for the /u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 the vowels sounds the same in pup and in pu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2590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Ju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f, h, k, l, l, p, r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d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d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p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verl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st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ext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d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0" name="Picture 2" descr="http://tbn2.google.com/images?q=tbn:wREWCZWOjCzPuM:http://www.gwc.maricopa.edu/class/bio201/muscle/le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133720"/>
            <a:ext cx="1960560" cy="2514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tbn3.google.com/images?q=tbn:cRZzIjc4U6NnrM:http://i38.photobucket.com/albums/e145/kaberly/20-PegGame_L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2209680"/>
            <a:ext cx="2500560" cy="2438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tbn3.google.com/images?q=tbn:hl6jCXm9phn74M:http://farm3.static.flickr.com/2200/1820595684_06c5774851.jpg%3Fv%3D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2514600"/>
            <a:ext cx="252720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1307160" y="46483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3898080" y="46483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6796080" y="441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r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9" name="Picture 2" descr="http://tbn0.google.com/images?q=tbn:ykRc5Xnc4GMOHM:http://www.freefoto.com/images/2026/05/2026_05_1---P-O-Pride-of-Bilbao-Ferry_we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051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http://tbn0.google.com/images?q=tbn:jq9ggA0wtlFUTM:http://www.bowenhomes.ca/images/fer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191120"/>
            <a:ext cx="2103480" cy="1371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tbn2.google.com/images?q=tbn:tDGe2GG1AwFJXM:http://d.emule.com/fondo-papa-noel-merry-christmas/fondo-papa-noel-merry-christma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4267080"/>
            <a:ext cx="212400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tbn1.google.com/images?q=tbn:1raNuXIoe6NThM:http://www.freefoto.com/images/11/06/11_06_14---Merry-go-round--The-Hoppings--Newcastle-upon-Tyne_we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29000" y="19051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http://tbn2.google.com/images?q=tbn:wbu2GGJ5pGCwuM:http://upload.wikimedia.org/wikipedia/commons/f/f1/Cherry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1981080"/>
            <a:ext cx="1722600" cy="129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http://tbn3.google.com/images?q=tbn:gELD5U7OoVutMM:http://www.americaslibrary.gov/assets/jb/progress/jb_progress_cherry_2_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77120" y="4267080"/>
            <a:ext cx="2151000" cy="14670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1"/>
          <p:cNvSpPr/>
          <p:nvPr/>
        </p:nvSpPr>
        <p:spPr>
          <a:xfrm>
            <a:off x="109440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018080" y="5562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4147560" y="342900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4071240" y="58672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6894000" y="3276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h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7046280" y="5715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h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Fact and Opin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all that when Abigail moved to a new home, she and her father had different opinions about the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what someone thinks or f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 be proven true or fa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not be proven true or false because it tells ideas or feel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view Gam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7"/>
              </a:rPr>
              <a:t>Spelling City-Vo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1"/>
              </a:rPr>
              <a:t>Quia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2"/>
              </a:rPr>
              <a:t>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gh Frequency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4"/>
              </a:rPr>
              <a:t>Match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5"/>
              </a:rPr>
              <a:t>Spelling City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6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sk 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ve readers often ask questions about the sentences they rea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might ask if a sentence is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an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Student Pages"/>
          <p:cNvPicPr/>
          <p:nvPr/>
        </p:nvPicPr>
        <p:blipFill>
          <a:blip r:embed="rId1"/>
          <a:stretch/>
        </p:blipFill>
        <p:spPr>
          <a:xfrm>
            <a:off x="228600" y="353880"/>
            <a:ext cx="8686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ike stod on a huge r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ike stood on a huge roc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ut your cap on the ho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Put your cap on the hoo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djectiv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can tell how something looks, sounds, tastes, feels, or smel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erdana"/>
              </a:rPr>
              <a:t>A sunflower has small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how many sunflowers—o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Sm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the size of the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ten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tall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large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oval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five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fiv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roun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pelling /u/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bout how a plant changes as it gr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23880" y="2362320"/>
          <a:ext cx="6096240" cy="34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5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something you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 that is an annual event.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124080" y="144792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ossword Puzz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four months, they grow from tiny seeds to large, round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nths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seeds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month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seed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frui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bury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 - 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put something in a hole under the ground, you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irat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rea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i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ulbs will bloom into tulips in the sp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worker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ll the cable lines along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undisturbe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 – dis – 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If something is not bothered or not moved from its normal place or situation, it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ed took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nap on the cou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new garden wa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y the pe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baby rabbits reste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ir nest in the gr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cien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- 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Very old things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Events that happened more than 2,000 years ago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yramids of Egypt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stru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urtle, Turtle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Watch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the soun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o/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come to a new word, look at the letters from left to right, and think about the vowel s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y the sounds in the word to yourself,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1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Match It Game</a:t>
                      </a:r>
                      <a:r>
                        <a:rPr b="0" lang="en-US" sz="20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b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fr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504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te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2590920" cy="48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  <a:ea typeface="Verdana"/>
              </a:rPr>
              <a:t>Click to listen to </a:t>
            </a:r>
            <a:r>
              <a:rPr b="1" lang="ja-JP" sz="4000" spc="-1" strike="noStrike">
                <a:solidFill>
                  <a:srgbClr val="feec94"/>
                </a:solidFill>
                <a:latin typeface="Verdana"/>
                <a:ea typeface="Verdana"/>
              </a:rPr>
              <a:t>“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  <a:ea typeface="Verdana"/>
              </a:rPr>
              <a:t>A Good Seed.</a:t>
            </a:r>
            <a:r>
              <a:rPr b="1" lang="ja-JP" sz="4000" spc="-1" strike="noStrike">
                <a:solidFill>
                  <a:srgbClr val="feec94"/>
                </a:solidFill>
                <a:latin typeface="Verdana"/>
                <a:ea typeface="Verdana"/>
              </a:rPr>
              <a:t>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5" name="Picture 1" descr="Phonics Songs and Rhymes Chart 17"/>
          <p:cNvPicPr/>
          <p:nvPr/>
        </p:nvPicPr>
        <p:blipFill>
          <a:blip r:embed="rId1"/>
          <a:srcRect l="0" t="0" r="0" b="14262"/>
          <a:stretch/>
        </p:blipFill>
        <p:spPr>
          <a:xfrm>
            <a:off x="3886200" y="210960"/>
            <a:ext cx="472428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000" spc="-1" strike="noStrike">
                <a:solidFill>
                  <a:srgbClr val="feec94"/>
                </a:solidFill>
                <a:latin typeface="Verdana"/>
              </a:rPr>
              <a:t>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, or u in </a:t>
            </a:r>
            <a:r>
              <a:rPr b="1" i="1" lang="ja-JP" sz="2400" spc="-1" strike="noStrike">
                <a:solidFill>
                  <a:srgbClr val="feec94"/>
                </a:solidFill>
                <a:latin typeface="Verdana"/>
              </a:rPr>
              <a:t>“</a:t>
            </a: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A Good Seed.</a:t>
            </a:r>
            <a:r>
              <a:rPr b="1" i="1" lang="ja-JP" sz="2400" spc="-1" strike="noStrike">
                <a:solidFill>
                  <a:srgbClr val="feec94"/>
                </a:solidFill>
                <a:latin typeface="Verdana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7760" y="190476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3600"/>
            </a:b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295280" y="1523880"/>
          <a:ext cx="6535800" cy="51818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4" name="Picture 4" descr="http://tbn0.google.com/images?q=tbn:9NwQO95LaO9TQM:http://www.david-laserscanner.com/wiki/_media/user_manual/image_cut_paper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981080"/>
            <a:ext cx="1228680" cy="1038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http://tbn0.google.com/images?q=tbn:qBwQ-U8ZDw358M:http://upload.wikimedia.org/wikibooks/en/7/74/Anatomy_and_physiology_of_animals_Typical_mammalian_gu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828800"/>
            <a:ext cx="1276560" cy="1247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http://tbn0.google.com/images?q=tbn:tO1Q3ykalI9YpM:http://www.hickerphoto.com/data/media/185/stone-hut_1448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1828800"/>
            <a:ext cx="1950840" cy="1295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http://tbn1.google.com/images?q=tbn:jVjdKvEQSGDoAM:http://img2.allposters.com/images/NGSPOD/111584-F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24480" y="1905120"/>
            <a:ext cx="905040" cy="1209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http://tbn2.google.com/images?q=tbn:X1Vi2LS9FY6dvM:http://cdn-www.dailypuppy.com/media/dogs/anonymous/sutter_mutt_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4191120"/>
            <a:ext cx="1390680" cy="1266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http://tbn0.google.com/images?q=tbn:j-e86v8rL-nizM:http://botit.botany.wisc.edu/images/130/Fruits/Acorns_(nut)_MC_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62320" y="4343400"/>
            <a:ext cx="150624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http://tbn0.google.com/images?q=tbn:SNwg7jKxHGxH7M:http://farm1.static.flickr.com/179/476081793_aba23b843c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19720" y="4191120"/>
            <a:ext cx="2057400" cy="1376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8" descr="http://tbn2.google.com/images?q=tbn:Xi5q2CtoE7ENLM:http://2.bp.blogspot.com/_DLqYpb8-A40/SYnLu_Kz4xI/AAAAAAAAAmk/BFrsgbHeB7I/s400/shutdoor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696080" y="1828800"/>
            <a:ext cx="990720" cy="1320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0" descr="http://tbn0.google.com/images?q=tbn:8PacGlI-wsf9FM:http://www.monroe.com.au/uploads/images/images/pic_294px_quick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62920" y="41148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2"/>
          <p:cNvSpPr/>
          <p:nvPr/>
        </p:nvSpPr>
        <p:spPr>
          <a:xfrm>
            <a:off x="928080" y="31240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456640" y="304812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4662360" y="31240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6501600" y="31240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7793640" y="320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786600" y="5486400"/>
            <a:ext cx="9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u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2833560" y="54100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n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Box 19"/>
          <p:cNvSpPr/>
          <p:nvPr/>
        </p:nvSpPr>
        <p:spPr>
          <a:xfrm>
            <a:off x="5119200" y="5562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7494480" y="56386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tr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d, g, h, k, l, l, p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769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cook put the wood in the p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wore a hood when I stood by the br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not push or pull that big hook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Build Background: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A Life Cyc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6" descr="CD6358-sm"/>
          <p:cNvPicPr/>
          <p:nvPr/>
        </p:nvPicPr>
        <p:blipFill>
          <a:blip r:embed="rId1"/>
          <a:stretch/>
        </p:blipFill>
        <p:spPr>
          <a:xfrm>
            <a:off x="228600" y="1600200"/>
            <a:ext cx="3925800" cy="4952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butterfly_lifecycle"/>
          <p:cNvPicPr/>
          <p:nvPr/>
        </p:nvPicPr>
        <p:blipFill>
          <a:blip r:embed="rId2"/>
          <a:stretch/>
        </p:blipFill>
        <p:spPr>
          <a:xfrm>
            <a:off x="4343400" y="2286000"/>
            <a:ext cx="45910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fruit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part of a plant that contains s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soi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p layer of Earth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5" action="ppaction://hlinksldjump"/>
              </a:rPr>
              <a:t>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part of a plant that takes in water and holds the plant in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6" action="ppaction://hlinksldjump"/>
              </a:rPr>
              <a:t>harvest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to gather cr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7" action="ppaction://hlinksldjump"/>
              </a:rPr>
              <a:t>v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plant with a long, thin 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8" action="ppaction://hlinksldjump"/>
              </a:rPr>
              <a:t>bump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covered with high spots or lum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smoo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flat or 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9" action="ppaction://hlinksldjump"/>
              </a:rPr>
              <a:t>cyc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eries of actions that happen in the same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0" action="ppaction://hlinksldjump"/>
              </a:rPr>
              <a:t>with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 dry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1" action="ppaction://hlinksldjump"/>
              </a:rPr>
              <a:t>tendril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lender, curling part of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2" action="ppaction://hlinksldjump"/>
              </a:rPr>
              <a:t>(next sli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frui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Picture 6" descr="Californian_Fruit_Sal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fruit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6002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fruit_festival_hom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175280"/>
            <a:ext cx="2743200" cy="2377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2" descr="frui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210200"/>
            <a:ext cx="3124080" cy="2352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small-frui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029200" y="1219320"/>
            <a:ext cx="3790800" cy="2855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6" descr="Fruit_Candle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05320" y="41911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soil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11" descr="quality%2520compo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SandstoneSoilExtrac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1219320"/>
            <a:ext cx="3038400" cy="2295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Soil%2520profile%2520Talbot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62520" y="1219320"/>
            <a:ext cx="1368360" cy="1981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soil-lif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3492360"/>
            <a:ext cx="3429000" cy="3041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9" descr="soil1-main_Fu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86200" y="3581280"/>
            <a:ext cx="2698920" cy="2962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1" descr="soil-develop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3657600"/>
            <a:ext cx="1954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roo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11" descr="roo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StrawberryRootLes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43200" y="4191120"/>
            <a:ext cx="3505320" cy="2373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5" descr="root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13720" y="1219320"/>
            <a:ext cx="2073240" cy="304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051%2520Vegetables%2520-%2520root%2520(1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66880" y="1219320"/>
            <a:ext cx="3962520" cy="2820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Physalis_pubescens_roo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3962520"/>
            <a:ext cx="2090880" cy="2562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1" descr="root0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29400" y="4343400"/>
            <a:ext cx="2247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harves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13" descr="fall-harv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124080" cy="2338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5" descr="harves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4419720"/>
            <a:ext cx="1424160" cy="2114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7" descr="1102_ridgecrest_after_harvest_bi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1219320"/>
            <a:ext cx="2209680" cy="151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1" descr="HarvestGrainStov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33920" y="2819520"/>
            <a:ext cx="2057400" cy="1549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3" descr="Harvest_Hay_Bales_in_S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2292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5" descr="pg_fs_harves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943600" y="1219320"/>
            <a:ext cx="2876400" cy="1917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7" descr="Pinotage%2520harvest%252002%252006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867280" y="4335480"/>
            <a:ext cx="29815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vin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13" descr="Climbing%2520vin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1955880" cy="2743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Blue_Berry_Vine__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12193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7" descr="The%2520Butterfly%2520Vine%2520is%2520a%2520summer%2520bloomer%2520along%2520side%2520the%2520Pride%2520of%2520Barbados%2520at%2520the%2520San%2520Antonio%2520Gard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1219320"/>
            <a:ext cx="3171960" cy="2271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9" descr="Vine_on_palm_branch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094280"/>
            <a:ext cx="3276720" cy="2468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1" descr="5273252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3809880"/>
            <a:ext cx="1243080" cy="2762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3" descr="vanilla_vine0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952880" y="3614760"/>
            <a:ext cx="3895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bumpy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11" descr="BumpyS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3" descr="Crystal-Lake-foam-bumpy-74106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15238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5" descr="Bumpy%2520Road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3909960"/>
            <a:ext cx="28191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7" descr="5in-bumpy_sta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9920" y="1219320"/>
            <a:ext cx="2790720" cy="2496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9" descr="bum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340160"/>
            <a:ext cx="3429000" cy="2222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1" descr="55086006_03ca191619_o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9880" y="4038480"/>
            <a:ext cx="20574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cycl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11" descr="water_cyc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429000" cy="2792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029%2520Life%2520cycle%2520of%2520a%2520fro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1219320"/>
            <a:ext cx="2514600" cy="2214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7" descr="cycle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32440"/>
            <a:ext cx="2666880" cy="2430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9" descr="nitrogen-cycl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8120" y="4124160"/>
            <a:ext cx="2819160" cy="2419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1" descr="hookworm_life_cycle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97600" y="3505320"/>
            <a:ext cx="2813040" cy="3038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3" descr="rock_cycl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121932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wither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Picture 11" descr="Wither_f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992400" cy="5333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3" descr="drroot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1219320"/>
            <a:ext cx="4514760" cy="3436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5" descr="CornWith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4724280"/>
            <a:ext cx="3200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tendrils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Picture 8" descr="pea_tendr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d199-1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1219320"/>
            <a:ext cx="1752480" cy="2133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1028%2520-%2520Psiguria%2520pedata%2520split%2520tendril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4120" y="1219320"/>
            <a:ext cx="3485880" cy="2625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4" descr="tendril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3581280"/>
            <a:ext cx="2104920" cy="2934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cucumber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438280" y="4038480"/>
            <a:ext cx="2895840" cy="2505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8" descr="Ampelopsis%2520arborea%2520tendril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562720" y="4073400"/>
            <a:ext cx="32860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br>
              <a:rPr sz="4400"/>
            </a:b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ut,  cook, stood, full, wood, July, shook, push, pull, brook, hook, hood, pudding, cushion, footprin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 words name parts of a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root, v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 names this group: apple, orange,  pea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fr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 names something that a farmer might 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harv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s tell how something fee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bumpy, smo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Big Question:</a:t>
            </a: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Revie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281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ru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arv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mp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moo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ontext Clu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strategies we can use when we come across words we don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 underst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look in a dictionary or glo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get the meaning from word parts like the base word and prefix or e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we can look for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y we will learn more about using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find the meaning of a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homony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Student Pages"/>
          <p:cNvPicPr/>
          <p:nvPr/>
        </p:nvPicPr>
        <p:blipFill>
          <a:blip r:embed="rId1"/>
          <a:stretch/>
        </p:blipFill>
        <p:spPr>
          <a:xfrm>
            <a:off x="152280" y="411120"/>
            <a:ext cx="883944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ad cut to pieces of wo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ad cut two pieces of woo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birthday is in ju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y birthday is in Jul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discover more facts about pumpkin pl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447920" y="2362320"/>
          <a:ext cx="6095880" cy="3236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lant you or someone you know has grown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book about Turtle.  We will take a good look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b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bout Turtle.  We will take a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goo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ople change as they grow older.  Animals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massive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 - 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f it is extremely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n elephant ha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rock blocked the entrance to the c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sprou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very young plan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a plant begins growing from a seed i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young be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had little green le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seed needs warmth and moisture before it will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urtle, Turtle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Watch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yllables: Consonant + 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dle -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an / 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more than one syll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with a consonant and le, those three letters make the last syllable in the word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/ 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 people do during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plant crops or pick cro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mething that hurts pumpkins or something that helps pumpkins gr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can you do with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eat it or water crops with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fall celebration or a plant with a long, slender 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pumpkin plant do, act like a big umbrella to protect the plant from the sun or bring food and water to the pla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road with many holes and lumps in it or a road that is completely fl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pond where the water is still or a pond with many waves in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5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13" name="Picture 2" descr="http://tbn0.google.com/images?q=tbn:6AfcqC0n4IL4CM:http://www.seedfest.co.uk/seeds/beans/blue-lake-be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828800"/>
            <a:ext cx="2376720" cy="1523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tbn1.google.com/images?q=tbn:1UV99WOGtXx_SM:http://www.jou.ufl.edu/pubs/communigator/spring2006/images/hynes-desk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1828800"/>
            <a:ext cx="2276280" cy="1523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http://tbn2.google.com/images?q=tbn:zgO2nHMp7t7kaM:http://i273.photobucket.com/albums/jj219/alohanema/weight-loss/200804/low-fat-cooking/lean-mea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1905120"/>
            <a:ext cx="1935000" cy="129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http://tbn1.google.com/images?q=tbn:omyZn9WrMgTdXM:http://i.ivillage.com/PP/tween_teen/bully_slideshow/girls_mean_32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4191120"/>
            <a:ext cx="1227240" cy="1676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http://tbn0.google.com/images?q=tbn:c5qk7HFAcCnXHM:http://i.ehow.com/images/GlobalPhoto/Articles/4586419/77212-main_Full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4267080"/>
            <a:ext cx="1828800" cy="1608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http://tbn3.google.com/images?q=tbn:4_ivXbIsZUGayM:http://www.mariabuszek.com/kcai/101-80/IntroImages/Exam%25202/MilletGlean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4038480"/>
            <a:ext cx="2662200" cy="1981440"/>
          </a:xfrm>
          <a:prstGeom prst="rect">
            <a:avLst/>
          </a:prstGeom>
          <a:ln w="0">
            <a:noFill/>
          </a:ln>
        </p:spPr>
      </p:pic>
      <p:sp>
        <p:nvSpPr>
          <p:cNvPr id="419" name="TextBox 8"/>
          <p:cNvSpPr/>
          <p:nvPr/>
        </p:nvSpPr>
        <p:spPr>
          <a:xfrm>
            <a:off x="1314720" y="33526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210920" y="3352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878160" y="3200400"/>
            <a:ext cx="8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1243800" y="586728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4060800" y="601992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7033680" y="58672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w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10-12T16:17:16Z</dcterms:modified>
  <cp:revision>47</cp:revision>
  <dc:subject/>
  <dc:title>Slide 1</dc:title>
</cp:coreProperties>
</file>